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B65E-CA59-4592-A79D-B42A3BB27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2333-123F-4F0F-8C96-905EF93DF0A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E1DF4-46B7-4D4F-A9E5-D5FC7470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98D53-2B34-4DDB-B8DC-0BA2B580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EA3FC-93F3-4E35-9789-DD7E5C05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BC164-96C5-42F2-A9EE-E9C125E6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78DE9-8336-4DD8-A74D-DFC5727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BC107A-F457-451B-8EE2-68BDFC6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FA44D-539A-49DA-90EE-BD50139B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75880-FDBF-413E-90A4-7D543597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47821-69C2-483B-991D-D85EEBE7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9C9B1-CBB7-4C79-B550-7270D4CF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6365-4F6F-49C3-8B56-03146C8C04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248FE1-6ADF-44BB-BE8B-982CC082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B82517-A9A5-4244-B43A-7BFEA161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7960C-8E4A-4E6F-9A8F-8DA5022F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213AE4-148F-4F58-8239-2117A88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DBC5E-0931-4F8D-8092-9B3A29B1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F8C041-F988-4099-8DDE-62A04FF1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AFE439-F640-464A-9A7A-3E01C332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118594-432B-4779-9028-5DEF15A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AA638-F2C0-4F3F-BDCE-D42E7587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3EB52F-6469-46B9-B638-30CAF43A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3485-525F-49D8-B2FC-C5DCE39807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AC9E4-24AE-4A74-91C8-0CEE37F0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DC984A-6180-434B-8F07-73C79AE2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674808-2EC0-4C8F-A559-1567FAB2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337B4B-6A38-49E4-AE8E-24CEFCF8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DBAD4D-57AB-417C-9AED-C8E73E50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BDD678-6768-4B53-8868-5ADEA75D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2D2F1-B8BF-4876-8B24-3125A249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1C0444-CCC5-4AFC-BDDE-BE55A2C8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7D96A9-72ED-4949-8185-BD63CA9F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042F33-89DE-4C27-91FB-37997804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697B9-0F4E-4462-8E55-701025C1D32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F07F5B-1ED5-4490-918C-156EB22B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7E223A-A7D4-46B4-894B-8C6CBC2B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740EEF-EFB1-4E86-A8D4-5A8B7D84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94469-FC74-43B0-BD59-2F465006AFE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5A5ED-FD46-4A00-A51D-712B6064348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A86E0-0295-43CC-84A1-67523F0F0A2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C722E-22CE-4896-8380-E769FFA006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8455C-FD11-4F8A-A9C9-BB08D1F056E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7D302-8085-44AD-86CF-74864D8011C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EB40D-57C6-437D-A61E-ABC4B6EFC8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8AE45-FA49-447A-AB6D-91FF5FBC169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B253B-4CB2-49A3-99B5-B696EBD184B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89DC8-A6F2-4A07-8B4E-5A17134A43E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E0FC0-0D3E-4F8D-8479-F8332643BC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C7AF5-CB78-4D07-9755-A7DF5F5899E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7905B-1EAD-4B4D-854F-ECFD1EBC48C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7F7B3-D3D6-40A9-9BB5-2C5E01A0165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98A79-257E-4682-90D9-EB7D3F2FB38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86229-E35C-43B9-9119-5449B157DE7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32999-2AB7-4EBC-A133-47D1ECC68DA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78EA5-643A-4F86-AE77-A375AA63C5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78645-42CA-4013-AD9F-64CA655D08F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18EBD-D280-4A07-BCD5-E3A2AAF7C8B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7C453-0EDE-48B6-A565-FE082948CAB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34E6F-C231-489B-8715-FEB52FA805C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E02AF-20C9-4DD0-AE6D-24FA0E945A6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8B032-03AD-4A18-A8A2-357548CF9F8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31F66-22BA-4E4D-85F3-0C3B83EF0B3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FBAA0-8DAC-4DA2-8C2B-58F353254E7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D985CF-E8AD-4CB4-B409-5B7D6185BBC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1FD05F-B0F1-4834-937D-7510E9FF609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AAE5B9-3366-4657-83D9-E821675155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D8D67-5C15-45AF-9640-69921456F41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48E6F4-D418-4A59-B881-59227A769BF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99B369-25BA-427C-984D-207B31C25CC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14B66B-129F-4B5F-AC07-8792A3BAE8F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FE179B-8205-4E8F-8652-A0BC1D692E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20ADF0-4FE9-427B-907B-AE15E2EBCE9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9F6FBC-7629-43D3-8079-CF0B45D6B39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6DF104-9771-489B-B303-B15DB3B21E7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1AAB4C-5364-4718-9CDC-3B85F8FC9A5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FF7D7A-1273-46ED-A88F-DA60FF99FFE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F7919-B1B6-49ED-A7D9-8D1A08D936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36563-73AD-4B95-B20E-3E530A58628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F1155-4911-4BE3-BC0A-022336E22C6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391CD-D642-43E8-9614-18453EA890A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D8387-E481-4E06-BCC4-EABB9162941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F9E89-904A-4959-98D7-5179515BC82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F5D33-B267-43CC-9AFD-70ED4C355ED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1F8CB-221E-4CED-AB6B-F5092E3D56C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329A9-8E32-412C-8C46-8F13DD49AE9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AC8A9-C013-4711-9EFC-E49E69ABE12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2C28F-E970-41F1-804F-1D7699DBF8F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F5511-D3E7-482B-AE3F-1F39CD1576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89AE6-500A-43DD-B4D7-60D4D4DD697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90AF1-4E7A-4C19-AE2D-6619B57BDB1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AE369-82B1-4FA6-9857-C8D46AA8109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8CFE1-1BEF-41E3-A9B2-7B4A0994F2A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368E8-0756-4886-B342-C3E6A637BEC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213D5-3B08-4928-8307-D437E567EDA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66CE6-EAE8-44FB-A741-CB5D2060E69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EC6F0-5981-41E5-9412-CAE43699892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57841-6A71-455F-B6D0-1CF39D4E528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99D64-BFF7-405F-A8BB-3D6AF15B101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9C7BA-55E3-4808-8304-D1C0CA2422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49624-405E-422D-ABF4-C44BE0295C4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B60D0-2DF6-41F7-92FD-41890D08AE2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D9C6F-6F09-4D8F-ABB3-F975C9FE9E4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14B01-3691-4624-9B74-46EB4D56271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C57251-44D0-4403-BB42-6833605C1A0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7BA292-F1CB-4873-8D90-64F7E9B8D6D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8482EF-98B8-435F-B6C0-31698FA847F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9988E8-34F9-47D5-8003-EF02F9CC96F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CEA6BA-0039-43AD-80E1-2744715949A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C79BE4-2353-4B85-8DC2-D22A7240042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17986F-4E07-46CF-841C-49985BCF9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F266-659A-4C2B-B44C-0554A94DF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3B017-2930-4841-A244-9E14E09952D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5689A9-A960-481B-8C54-B3CB117E9C6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09057C-1647-4762-9BAB-7982ED2D18E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381F90-A5A5-4620-A873-ECE01AB752D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10771A-F484-433B-A3F3-F92090E643C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3B902E-7660-4BE2-8F8A-5D076F4F7BF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41FCE8-83AE-4A9D-AED4-67E7A56A0E0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F94F91-66BC-4B1E-8AE1-FF5BE5B2BFA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949304-5629-40A7-9CEA-3BBBD510C10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C710B8-F55C-4A1F-9C9F-68635240427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54C5E5-25E7-4BDD-AE54-85B7124EF0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3DF0F-3F13-4DA8-9251-2E8B3BEFC19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745628-E20B-412E-BD69-B6C4300E0CA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C0F185-428A-431F-8AD3-7D544CA3DA6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AA548D-17F9-4062-8263-6E8E9DA91BD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5DEE92-55A3-4EE9-AA43-101D529BED2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0B80FF-B1C6-4C42-8C2F-B5F37CCAC7E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28352C-1556-49FF-B8C1-E9007CD8DB6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88C6E4-091B-4B6E-A4FC-D2A546B9A4B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251AB-35BB-4131-8A50-A27A7056305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5B7AB-3774-419F-93D6-C1BEFC65D70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435B8-C17B-4F4D-89E3-4C74235861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5BBCB-5FAD-415B-B790-A5C8A9E0E31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12E95-714A-42FC-AEB5-03C9FF19D76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6EAE2-35C6-481F-A83B-69D8507C414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1285B-8DE0-4937-B120-E5B7F6E2E34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80E4D-138B-41A4-B8FE-43DC70C9756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020EB-32FB-4A95-8776-9ABD88E06CA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F04E7-1940-44CF-9D7F-F5A2F4F25E1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C2F23-77E4-462F-AA35-4BDC043FE94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761E7-CF92-43B8-90B8-6705C141662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8218D-0E34-45DC-8CCD-FB08B4915D6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7968AA-A477-4C22-9121-9FB2C33661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343B0-F0E8-4992-A3C0-C5A13B26AD3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FCCE18-992F-4524-B6FD-0C80800DD0D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A2CF89-579B-4362-A333-3BE024BE38A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B71225-79F4-46DC-9C98-A4F1D719DB7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8BE026-DCCD-4B1A-BD1B-1AC5725FF8A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68400F-FC66-49C9-9B5E-AFA54FD5A51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6DECDD-DB82-445C-8CDA-B53E916F586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93C10C-7347-4AA8-944F-4C29EA5473E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AAE028-CA68-4E9F-9814-9B3443475D3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376C31-8A2F-4830-BCFC-4E3F61750A6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494210-3788-441E-B3DE-AE3B418D9A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49213-B32A-4A60-B1CC-EE86D6511AB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A9A3FC-9708-4922-9569-487C973D2F1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EE96EB-D992-43A7-B27B-044FD4EB7F8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B1E6DB-2FBB-463B-B025-FDD64D231F0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9E4A1A-3881-4441-ABC3-8DB2ABE5576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352C24-B681-4FCD-BF44-CAB137D38F2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3D9C27-7485-4F86-8BFE-3737FEF7AF2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31B17D-8576-455C-81CE-8B519758D1D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E79C35-A33A-450A-B66E-6EDBA045D2E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08D1D6-E162-4BD8-A3A4-A1EEFE1A5E3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8DADD6-4428-4240-9970-52C8795257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D2D2-1723-4220-B5D4-3F2E8376C59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E4AB88-3F24-47D6-A2DE-BE1FCAF6AF7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6A5F24-1C44-429A-95A0-3996294DC0A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B91DD3-44D3-4AC5-ADE0-DD030275FF8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1E58B-290C-47FA-A0F9-6A744D2A676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2C97B-AC7E-45AE-939C-A0C887F121F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84AE2-7E4A-46D0-9D2C-F70F514FF28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0B6C6-3AA6-4C9E-B3C2-8F5E26A977E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B686A-2B2D-42AD-8B26-A664D958ADA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5AF38-F823-41FA-82F6-A9FA7AF5E05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4EA1B-AC94-4DD5-8652-A4DE7C57E4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508A-832B-4285-9096-74FAF50EFD8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90CAF-B14D-45F7-AF98-5356EE8EB92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E9F2F-AA92-470D-BD3A-D972B1445B0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BACDD7-CF09-4887-9C83-4AC20E99B94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06654-F96E-46F5-87E1-AF70EFD738B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AB59E-4D90-47EB-B4E8-25CA079A064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DD34C9-225F-4974-8551-768EBA93ECD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BF61C7-58FC-45D2-BA0A-FE69CC2D7FE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FF26AC-2805-487D-8184-F67BC92BDFE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CB7ACB-AE6D-4B37-A8D7-07FFA69AB29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A9D83D-E3A8-472D-922E-4CD0049DCB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1DD0-FDC8-4F21-A07F-3B47EB3A4BA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7FFD3A-2ED7-466A-A35E-84A3AE72EBB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01AC7A-61D2-4783-9083-BC8A9CFD35E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17DCE0-83A5-45A6-84CD-0303221CE72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58E04E-ECBC-484F-8B51-550E4283564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6ED8BB-140C-41FD-ABD6-A9F8F75F9E3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F921C9-2F85-43F4-B030-C9EFAB722C5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D1B2F7-7663-44B8-8A17-F936857E456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AFD09F-12C8-4CFB-8FE5-D41CA6086F4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C46CA4-3F03-4988-BC82-F56E7E8D110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A286A5-97A4-4DE9-851E-068D6B2ADD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B9ED-8D0A-41C6-A253-CF5DFFC3853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5879E9-9947-42CE-989E-BFEB1E2593E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782C72-BAAB-4CC7-B4BA-87AE9E9104B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C17BBD-1D55-4995-A1ED-BF762FB8564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EFBD8CC-2592-45AD-9008-9FE6715F3C5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F16C1EC-58AC-4A72-B972-EC2C57D7F53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F1827E-9D5C-4A41-9E4E-D0EEDBA3E04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3363685-F262-4FB3-A920-54C2AFF212E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6C8F52C-97F8-4D8D-8ED8-368F1F86344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7979CF-AB48-4382-883E-CFC31AE23D6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D7DC78-3C73-4E11-B5D7-8D45A4A776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DC04-F44B-4510-9C98-5CF072CB784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F4CB2F-AA6C-4780-8EC6-E70EDD70660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365D9-6480-4628-B9A5-BFB506C4585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E1972-277D-48DD-BC59-0EAB88670D4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616D1-23A8-47D8-A0F8-9898D567639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E2E14-CF3F-4DE2-A92A-17229D0DB35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6E1BD-4B84-4A3D-BB2F-B47D88C0AA2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BD6BA-C42F-42CC-9909-255A58C56DB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15DA7F-4AA7-42D1-B333-95BA24878EB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45A18-FC08-42AB-AD7C-3EB523605C3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9E3B6-B895-4F2C-9552-9B7BDA2C52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46C3-D114-4194-8344-E7ABE43003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0375-AF52-426E-A39D-96DF53ECDA7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5C869B-D67C-40C1-9195-797413A1E9A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F6B85D-0EFE-4A6F-BFF9-3A82E0B398D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C1C893-0D88-4293-BE69-ADC06C967B6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8BA5A1-CDFA-45F5-ACE6-94B9DFA15B6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436BB2-C7D8-44D8-8A95-8C626C19E67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AD3580-C648-435B-B888-6D34ED9A5FD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2A8040-1225-43CC-A648-C9D5D7DCC31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481559-164C-4819-B961-A250027FF8F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E73B32-E5C8-495B-BD2D-5CB59DD2BE9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49DFF8-5582-4AB1-B6BA-789A027D9E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79A4-E71D-430E-BEA6-F55706AA989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FB7124-8C29-4C57-8C07-D1B272473CE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1B5E3A5-169D-44E6-A616-64F40461FEF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44815F-FF8D-4C01-B686-0A5A3DF90B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3FC9-0606-47EE-8226-1700C2ECE0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C868-EB43-4056-9169-8B26D5ACD4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801E-6A05-43F3-B054-8E698D6553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A59E-D1E3-4E6C-BCCF-9620FF8D49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4EEA-FB75-416B-A257-88E472A305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23004-77B3-4FDA-B13F-D7D47DF7BA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29572-4B98-426E-A62A-BA2796542B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0E357-C4B1-4B1D-BCB3-A73B739F9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2226-02F2-4772-975A-7A1203176E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3F844-0FF5-4BF3-A699-86795EDD12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87798-6206-4472-9A50-05175CD1F8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1D077-DE1D-4A7D-BA17-23EA102B37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63AAB-68EC-432C-83FA-7F56DEE658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235D3-9051-48B6-A226-E55034FA95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17725-90DB-4F79-A427-6EED40E179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E52C7-196A-42C6-969D-23E4CF1ED1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81913-68E9-48F5-8673-613BE0E40D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934DA-D239-4D78-B452-55E3A9C684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B2B2F-657C-440F-A05D-F1F8A3450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B121-0C87-4376-BAEE-25121E4DC8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6E184-02C2-48D1-A9C8-BEF6FD2BAC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BBB98-892E-4784-80D1-5F374D3B5F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88BAD1-9DD5-4F29-B82F-0E99E03D55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18D4FD-9A39-4347-9009-20F5C2721F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8340D-4A59-4916-8444-D538C885DDA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29DFA2-43F0-4EBB-9E1E-1B87A578BE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A2AE7-31F3-4786-AAD1-DF693C143E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7F59EB-54A2-4401-9F2F-33385BDFF1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1B787-FF83-42EC-B360-48BC848A54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96924-1DE5-474C-8F19-001185DC8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35A5C-88B4-4152-B6EE-65F77F56982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03E90-5323-4675-B8DE-8900A2935A9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29B7-9396-40EF-917A-0EA45746A00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93E88-E275-4D38-82D9-A0E2F7FA811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E9B4D-857D-41F3-AE62-1F96D8235C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FF4A-4037-4520-A529-7058604E6C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DFA44-8414-4BE3-8D03-D40882B66A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6A5D-8835-4A41-9E9D-566717B7436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09661-2C17-4936-AE47-C4F5DB9B440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9DBC-4F2D-4B56-B26C-911111C0C58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CBA1-FD83-4F4C-B6E7-076F049EC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7A10-E465-4206-A60C-2AEB2FC496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B13AF-F85D-4F65-AACB-EB5BD5AC0E0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B7AA-9E25-4EB7-8600-AAFEC65A6D0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669C-9BF2-49E2-9014-8E44F573176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347D0-5FCB-4ED7-9148-060A01CE49A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7E52A-598E-4F03-9D8E-ED6408B1C63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D2199-C5BA-4A10-97AB-1DBB563E53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0FD0A-D64E-4480-BED6-FF18169BAA5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EE021-7D24-4256-9197-4901B7158A2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B1B8E-E40A-4782-8076-57C1EBD778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55407-0174-47A5-942A-C80F5E27E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1366-033A-4908-B71D-1E4AAC2796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2AE46-4057-49BE-81F8-5D2703E5E4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9C9F6-A3EA-40CB-98D6-A2282BEE6C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E6115-C442-4516-8131-DBD11FB4141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072EC-7E48-467E-9C12-B3B9BBE862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9FE17-F189-4C99-A924-2D602C6AB3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2F60A-439E-4E33-ADB8-51818B44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8F5D3-D27C-427F-81FD-DB1A8272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54D5E-E7D3-44FA-AF29-CE47083D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50746-35E9-4BB9-A385-4669E056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EBD72-FF9D-44AE-95D3-2B93471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C33F3-1B38-44F3-A664-23F6C7D1D2C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C18E6-7CAA-450D-BE77-18C7ACE9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BEC0A-A7B6-43E3-A596-7BBE0448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041B1-0BE6-401E-96D6-DF52EF29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34944-BF39-4CFC-BFE0-1EB010CA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AE792-C713-4F22-9A3E-511016DF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F892E-2942-4F82-B7AB-9F6D2C0D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9790F-9712-4392-8868-B8B00261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A604BE-ED9F-4AAF-88F3-078DC60F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2986D0-9EF6-4CB7-ADE4-5B4F83F5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816EB-27B0-4624-B746-9370BFBD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-6480"/>
            <a:ext cx="9158400" cy="33984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2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A1A6-3995-49BC-BB59-AB3D50ED6AC9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Picture 2" descr="C:\Users\ExternalRelations\Desktop\_logoESN.png"/>
          <p:cNvPicPr/>
          <p:nvPr/>
        </p:nvPicPr>
        <p:blipFill>
          <a:blip r:embed="rId6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0" y="-6480"/>
            <a:ext cx="9158400" cy="33984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2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BD96-DBFD-4B23-9C57-104D342F0161}" type="datetime">
              <a:rPr b="0" lang="sv-SE" sz="1800" spc="-1" strike="noStrike">
                <a:solidFill>
                  <a:srgbClr val="000000"/>
                </a:solidFill>
                <a:latin typeface="Calibri"/>
              </a:rPr>
              <a:t>26-07-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2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3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B3EE-5B64-43C5-8554-E6AE0A10E6EA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-6480"/>
            <a:ext cx="9158400" cy="33984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2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1877-3ADE-447F-B6D0-1FA7660334C6}" type="datetime">
              <a:rPr b="0" lang="sv-SE" sz="1800" spc="-1" strike="noStrike">
                <a:solidFill>
                  <a:srgbClr val="000000"/>
                </a:solidFill>
                <a:latin typeface="Calibri"/>
              </a:rPr>
              <a:t>26-07-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5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6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C998-D2FA-44D3-BB59-5162044CE19E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ftr" idx="27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28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1954-6819-47D3-A95B-39D43B5EF00D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9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30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EA23-2E8C-4F20-BA23-F2089EB0948E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ftr" idx="31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sldNum" idx="32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110F-C0D6-4202-A058-09F4CBF85C4B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33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34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D2D8-FAF6-4D08-940F-20A42750C6A6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5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6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6B21-7D08-46F6-8992-C09DDB3D3E45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ftr" idx="37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sldNum" idx="38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1A09-7599-4189-8229-13A76E6D69D9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39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0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ACEC-B758-4984-88D9-9B0B910DD3C3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ftr" idx="41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sldNum" idx="42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5B1E-28C7-4749-9AB7-D3B6396FC072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-36360" y="-6480"/>
            <a:ext cx="2195280" cy="686448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e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195640" y="1341360"/>
            <a:ext cx="6697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FBB5-2487-4337-AD36-1A92FDD21786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ExternalRelations\Desktop\_logoESN.png"/>
          <p:cNvPicPr/>
          <p:nvPr/>
        </p:nvPicPr>
        <p:blipFill>
          <a:blip r:embed="rId6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ftr" idx="43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4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7474-1703-43A2-9C15-4D1272F5256B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45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46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F7E2-87AE-4897-9D72-E61DFCD96247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ftr" idx="47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sldNum" idx="48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2CE9-C406-47E3-A339-F77E427A9CD1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ftr" idx="49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sldNum" idx="50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61CC-E610-4390-9E65-CF0F0423FC41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1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sldNum" idx="52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0A0C-45FC-45B5-9590-79B3CA929267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ftr" idx="53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sldNum" idx="54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3325-8998-4E58-B579-89D1A904FD79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ftr" idx="55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sldNum" idx="56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DAA4-0E15-4914-A677-61993E03405B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3e0"/>
            </a:gs>
            <a:gs pos="100000">
              <a:srgbClr val="00ae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AA1D-3BB5-42EC-B5B2-002D8618A246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8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B5D8-8DD6-40DB-8D68-45AB4C508A8D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9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0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041B-2304-441D-BF54-29BA3F935E93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735A-77C4-4E62-BCAA-C45D3889F2A1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3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B6CA-7080-4FCF-9E25-CC5C72E0E0DD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0" y="-6480"/>
            <a:ext cx="9158400" cy="33984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2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9045-86A8-4D8D-B8C7-C475AE692C53}" type="datetime">
              <a:rPr b="0" lang="sv-SE" sz="1800" spc="-1" strike="noStrike">
                <a:solidFill>
                  <a:srgbClr val="000000"/>
                </a:solidFill>
                <a:latin typeface="Calibri"/>
              </a:rPr>
              <a:t>26-07-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6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7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66E4-75E9-47F7-901A-E287F3157590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0" y="-6480"/>
            <a:ext cx="9158400" cy="33984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2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2BC1-43D0-42E8-9B1F-CF57EE809E76}" type="datetime">
              <a:rPr b="0" lang="sv-SE" sz="1800" spc="-1" strike="noStrike">
                <a:solidFill>
                  <a:srgbClr val="000000"/>
                </a:solidFill>
                <a:latin typeface="Calibri"/>
              </a:rPr>
              <a:t>26-07-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9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0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0984-296C-4715-B85E-16953F1D2D42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http://www.esnpavia.org/" TargetMode="External"/><Relationship Id="rId4" Type="http://schemas.openxmlformats.org/officeDocument/2006/relationships/hyperlink" Target="http://www.esn.it/" TargetMode="External"/><Relationship Id="rId5" Type="http://schemas.openxmlformats.org/officeDocument/2006/relationships/hyperlink" Target="http://www.esn.org/" TargetMode="External"/><Relationship Id="rId6" Type="http://schemas.openxmlformats.org/officeDocument/2006/relationships/image" Target="../media/image4.png"/><Relationship Id="rId7" Type="http://schemas.openxmlformats.org/officeDocument/2006/relationships/hyperlink" Target="mailto:pavia@esn.it" TargetMode="External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7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5777"/>
                </a:solidFill>
                <a:latin typeface="Cambria"/>
              </a:rPr>
              <a:t>ST.E.P. ESN PAVIA</a:t>
            </a:r>
            <a:endParaRPr b="1" lang="en-US" sz="54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55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4006b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b4006b"/>
                </a:solidFill>
                <a:latin typeface="Calibri"/>
              </a:rPr>
              <a:t>Università degli Studi di Pavia</a:t>
            </a:r>
            <a:endParaRPr b="0" lang="en-US" sz="24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82b3"/>
                </a:solidFill>
                <a:latin typeface="Cambria"/>
              </a:rPr>
              <a:t>ESN tasks</a:t>
            </a:r>
            <a:r>
              <a:rPr b="1" lang="it-IT" sz="3000" spc="-1" strike="noStrike">
                <a:solidFill>
                  <a:srgbClr val="0082b3"/>
                </a:solidFill>
                <a:latin typeface="Cambria"/>
              </a:rPr>
              <a:t> – After the Erasmus</a:t>
            </a:r>
            <a:endParaRPr b="1" lang="en-US" sz="30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Help to fight the </a:t>
            </a:r>
            <a:r>
              <a:rPr b="0" i="1" lang="en-GB" sz="3000" spc="-1" strike="noStrike">
                <a:solidFill>
                  <a:srgbClr val="555555"/>
                </a:solidFill>
                <a:latin typeface="Calibri"/>
              </a:rPr>
              <a:t>post Erasmus syndrome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Let you live a multicultural experience in your own city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Welcome who comes back from Erasmus: we need new volunteer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!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itle 1"/>
          <p:cNvSpPr/>
          <p:nvPr/>
        </p:nvSpPr>
        <p:spPr>
          <a:xfrm>
            <a:off x="685800" y="190512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5777"/>
                </a:solidFill>
                <a:latin typeface="Cambria"/>
              </a:rPr>
              <a:t>PROJECTS</a:t>
            </a:r>
            <a:endParaRPr b="0" lang="en-US" sz="6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Local Projects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Info Point e Welcome Month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Welcome Day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Info Marke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Tandem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Theme party (San Nicola, Eurodinner)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Cultural activities (Find Me!, Green Tour, Cineforum)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Trip for the promotion of the local area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Trip for the promotion of the national territory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82b3"/>
                </a:solidFill>
                <a:latin typeface="Cambria"/>
              </a:rPr>
              <a:t>National and International Projects</a:t>
            </a:r>
            <a:endParaRPr b="1" lang="en-US" sz="30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Social Erasmus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rasmus in Schoo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SN Italy Guide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PRIME (Problem of Recognition In Making Erasmus)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xchangeAbility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duk8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History Book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itle 1"/>
          <p:cNvSpPr/>
          <p:nvPr/>
        </p:nvSpPr>
        <p:spPr>
          <a:xfrm>
            <a:off x="685800" y="190512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5777"/>
                </a:solidFill>
                <a:latin typeface="Cambria"/>
              </a:rPr>
              <a:t>USEFUL LINK</a:t>
            </a:r>
            <a:endParaRPr b="0" lang="en-US" sz="6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Contacts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Web site: 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ST.E.P. ESN Pavia: </a:t>
            </a:r>
            <a:r>
              <a:rPr b="0" lang="it-IT" sz="2600" spc="-1" strike="noStrike" u="sng">
                <a:solidFill>
                  <a:srgbClr val="1f497d"/>
                </a:solidFill>
                <a:uFillTx/>
                <a:latin typeface="Calibri"/>
                <a:hlinkClick r:id="rId3"/>
              </a:rPr>
              <a:t>www.esnpavia.org</a:t>
            </a:r>
            <a:endParaRPr b="0" lang="en-US" sz="2600" spc="-1" strike="noStrike">
              <a:solidFill>
                <a:srgbClr val="ec008c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ESN Italia: </a:t>
            </a:r>
            <a:r>
              <a:rPr b="0" lang="it-IT" sz="2600" spc="-1" strike="noStrike" u="sng">
                <a:solidFill>
                  <a:srgbClr val="1f497d"/>
                </a:solidFill>
                <a:uFillTx/>
                <a:latin typeface="Calibri"/>
                <a:hlinkClick r:id="rId4"/>
              </a:rPr>
              <a:t>www.esn.it</a:t>
            </a:r>
            <a:endParaRPr b="0" lang="en-US" sz="2600" spc="-1" strike="noStrike">
              <a:solidFill>
                <a:srgbClr val="ec008c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ESN International: </a:t>
            </a:r>
            <a:r>
              <a:rPr b="0" lang="it-IT" sz="2600" spc="-1" strike="noStrike" u="sng">
                <a:solidFill>
                  <a:srgbClr val="1f497d"/>
                </a:solidFill>
                <a:uFillTx/>
                <a:latin typeface="Calibri"/>
                <a:hlinkClick r:id="rId5"/>
              </a:rPr>
              <a:t>www.esn.org</a:t>
            </a: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ec008c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-mail: </a:t>
            </a:r>
            <a:r>
              <a:rPr b="0" lang="it-IT" sz="3000" spc="-1" strike="noStrike" u="sng">
                <a:solidFill>
                  <a:srgbClr val="1f497d"/>
                </a:solidFill>
                <a:uFillTx/>
                <a:latin typeface="Calibri"/>
                <a:hlinkClick r:id="rId7"/>
              </a:rPr>
              <a:t>pavia@esn.i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Title 1"/>
          <p:cNvSpPr/>
          <p:nvPr/>
        </p:nvSpPr>
        <p:spPr>
          <a:xfrm>
            <a:off x="685800" y="243828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5777"/>
                </a:solidFill>
                <a:latin typeface="Cambria"/>
              </a:rPr>
              <a:t>THANKS FOR THE ATTENTION!</a:t>
            </a:r>
            <a:endParaRPr b="0" lang="en-US" sz="54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AGENDA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What is ESN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SN tasks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Projects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Useful link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itle 1"/>
          <p:cNvSpPr/>
          <p:nvPr/>
        </p:nvSpPr>
        <p:spPr>
          <a:xfrm>
            <a:off x="685800" y="190512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5777"/>
                </a:solidFill>
                <a:latin typeface="Cambria"/>
              </a:rPr>
              <a:t>WHAT IS ESN</a:t>
            </a:r>
            <a:endParaRPr b="0" lang="en-US" sz="6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057040" y="19800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What is ESN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3352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5555"/>
                </a:solidFill>
                <a:latin typeface="Calibri"/>
              </a:rPr>
              <a:t>It’s one of the biggest students no-profit organization in Europe</a:t>
            </a:r>
            <a:r>
              <a:rPr b="0" lang="it-IT" sz="2800" spc="-1" strike="noStrike">
                <a:solidFill>
                  <a:srgbClr val="555555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5555"/>
                </a:solidFill>
                <a:latin typeface="Calibri"/>
              </a:rPr>
              <a:t>Founded in 1989</a:t>
            </a:r>
            <a:r>
              <a:rPr b="0" lang="it-IT" sz="2800" spc="-1" strike="noStrike">
                <a:solidFill>
                  <a:srgbClr val="555555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c008c"/>
                </a:solidFill>
                <a:latin typeface="Calibri"/>
              </a:rPr>
              <a:t>In conjunction with the return of the first Erasmus students</a:t>
            </a:r>
            <a:r>
              <a:rPr b="0" lang="it-IT" sz="2400" spc="-1" strike="noStrike">
                <a:solidFill>
                  <a:srgbClr val="ec008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ec008c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55555"/>
                </a:solidFill>
                <a:latin typeface="Calibri"/>
              </a:rPr>
              <a:t>Objective: </a:t>
            </a:r>
            <a:r>
              <a:rPr b="0" lang="en-GB" sz="2800" spc="-1" strike="noStrike">
                <a:solidFill>
                  <a:srgbClr val="555555"/>
                </a:solidFill>
                <a:latin typeface="Calibri"/>
              </a:rPr>
              <a:t>to support and to develop exchange between students, and to offer an intercultural experience</a:t>
            </a:r>
            <a:r>
              <a:rPr b="0" lang="it-IT" sz="2800" spc="-1" strike="noStrike">
                <a:solidFill>
                  <a:srgbClr val="555555"/>
                </a:solidFill>
                <a:latin typeface="Calibri"/>
              </a:rPr>
              <a:t> .</a:t>
            </a:r>
            <a:r>
              <a:rPr b="0" lang="it-IT" sz="2600" spc="-1" strike="noStrike">
                <a:solidFill>
                  <a:srgbClr val="555555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c008c"/>
                </a:solidFill>
                <a:latin typeface="Calibri"/>
              </a:rPr>
              <a:t>Also for the students that don’t have the possibility to live an experience abroad (“internationalization at home”)</a:t>
            </a:r>
            <a:r>
              <a:rPr b="0" lang="it-IT" sz="2400" spc="-1" strike="noStrike">
                <a:solidFill>
                  <a:srgbClr val="ec008c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ec008c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101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55555"/>
                </a:solidFill>
                <a:latin typeface="Calibri"/>
              </a:rPr>
              <a:t>Main principle</a:t>
            </a:r>
            <a:r>
              <a:rPr b="0" lang="en-GB" sz="2800" spc="-1" strike="noStrike">
                <a:solidFill>
                  <a:srgbClr val="555555"/>
                </a:solidFill>
                <a:latin typeface="Calibri"/>
              </a:rPr>
              <a:t>: Student helping student</a:t>
            </a:r>
            <a:r>
              <a:rPr b="0" lang="it-IT" sz="28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55555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057040" y="19800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What is ESN /2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3628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More than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12.000</a:t>
            </a: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 volunteer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 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e0084"/>
                </a:solidFill>
                <a:latin typeface="Calibri"/>
              </a:rPr>
              <a:t>425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local section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 (University-based). 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ESN exists in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35</a:t>
            </a: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 different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European countrie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Helps over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160.000 students</a:t>
            </a: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 per year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 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All ESNers are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volunteer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Annual growth rate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: </a:t>
            </a:r>
            <a:r>
              <a:rPr b="0" lang="it-IT" sz="3000" spc="-1" strike="noStrike">
                <a:solidFill>
                  <a:srgbClr val="de0084"/>
                </a:solidFill>
                <a:latin typeface="Calibri"/>
              </a:rPr>
              <a:t>12.3 %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057040" y="19800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Che cos’è ESN /2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2"/>
          <a:stretch/>
        </p:blipFill>
        <p:spPr>
          <a:xfrm>
            <a:off x="-76320" y="-39600"/>
            <a:ext cx="929664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itle 1"/>
          <p:cNvSpPr/>
          <p:nvPr/>
        </p:nvSpPr>
        <p:spPr>
          <a:xfrm>
            <a:off x="685800" y="190512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5777"/>
                </a:solidFill>
                <a:latin typeface="Cambria"/>
              </a:rPr>
              <a:t>ESN TASKS</a:t>
            </a:r>
            <a:endParaRPr b="0" lang="en-US" sz="6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82b3"/>
                </a:solidFill>
                <a:latin typeface="Cambria"/>
              </a:rPr>
              <a:t>ESN tasks – Before the Erasmus</a:t>
            </a:r>
            <a:endParaRPr b="1" lang="en-US" sz="30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In Pavia: Info Market. 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ec008c"/>
                </a:solidFill>
                <a:latin typeface="Calibri"/>
              </a:rPr>
              <a:t>Informative booths where former Erasmus students / actual foreign students in Erasmus gives all the info about the city where they have been Erasmus / where they come from, in order to help the Italian students that will go on Erasmus</a:t>
            </a: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ec008c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In the city that will be your destination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ec008c"/>
                </a:solidFill>
                <a:latin typeface="Calibri"/>
              </a:rPr>
              <a:t>You can contact the ESN section of the city that will be the destination of your Erasmus: you will surely find important information that will help you</a:t>
            </a: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 !</a:t>
            </a:r>
            <a:endParaRPr b="0" lang="en-US" sz="2600" spc="-1" strike="noStrike">
              <a:solidFill>
                <a:srgbClr val="ec008c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82b3"/>
                </a:solidFill>
                <a:latin typeface="Cambria"/>
              </a:rPr>
              <a:t>ESN tasks</a:t>
            </a:r>
            <a:r>
              <a:rPr b="1" lang="it-IT" sz="3000" spc="-1" strike="noStrike">
                <a:solidFill>
                  <a:srgbClr val="0082b3"/>
                </a:solidFill>
                <a:latin typeface="Cambria"/>
              </a:rPr>
              <a:t> – During the Erasmus</a:t>
            </a:r>
            <a:endParaRPr b="1" lang="en-US" sz="30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Improve the social integration of the exchange students: integration both between Erasmus students, and between them and the local community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Organize any kind of activity: buddy / tutor system, Welcome / orientation week, language exchange project (Tandem), cultural and social activities, trips, event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Help to overcome the difficulties that can be faced during the mobility period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5:52:53Z</dcterms:created>
  <dc:creator>Josefin Svensson</dc:creator>
  <dc:description/>
  <dc:language>en-US</dc:language>
  <cp:lastModifiedBy>Giovanni Zorzoli</cp:lastModifiedBy>
  <cp:lastPrinted>2013-02-13T08:55:17Z</cp:lastPrinted>
  <dcterms:modified xsi:type="dcterms:W3CDTF">2013-06-04T14:48:23Z</dcterms:modified>
  <cp:revision>54</cp:revision>
  <dc:subject/>
  <dc:title>PowerPoint Presentation</dc:title>
</cp:coreProperties>
</file>