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6B03-8403-4D03-8FB9-A9F3DE712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23E2-E1F0-4D84-AF42-914CB43E3D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23B31-D091-43D0-9D49-E42355E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F504D-8820-497C-9F35-74EB761A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68280-F788-4644-B297-C38F416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708A0-764C-47ED-80E9-B610B95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71F88-73C0-42E1-A805-CD2FBB35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CFD53-F4F5-4CEE-B994-4A46931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8904A-7C85-4242-8C4C-32C45E18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38DC0-0E54-4C63-95E9-2CB970B5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6847B-FBA9-4770-988C-98898565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62762-C410-4F33-AAA0-2C40A751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C6E2-CE58-4F22-9ECE-BBEF1E92B7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354FF4-4600-4BAC-A10B-665A641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0F822-D1CC-44DF-9D04-68060F07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EB53C-3621-4943-BF8C-6DF916EA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2A9A10-9FF5-4BFD-B4B4-1411084A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7F69C-883F-43AE-8D30-8E548399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BE751-E1A4-4D6A-8CCE-BD23DDE5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AC442D-C280-40D3-BE69-82452DA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B419D-CD16-43AF-B291-502959F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AC967-6849-4130-AC33-9A8D38BF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1C4FC-F1D5-41E9-83AD-01945B46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49AF-58E2-42DA-BEB6-1651B0B8DA8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EDD19-D722-49BB-ACB7-F90007FE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4862A-0F71-4399-A113-E61E0C11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A7526-2D33-4812-9F7D-23E8EF39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F30D9-D0AE-40E3-B6FF-CAE036C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61A56-7607-4897-9EF6-7AE25889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DC6EE5-5BF6-47EB-8CFC-E6E33E1C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D9464-8D7C-4E6E-BD27-A82401F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D1F8FC-48AE-4CE5-88DB-06CB4A8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99DA7-19FD-43C2-93AD-8715342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923B46-FE05-487E-BE6E-DA569DC4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CF0A-26B7-4F09-8149-03B0926204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9955E-5C1D-4D51-BD10-A443485D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B36BE-A52F-4892-AF6E-D69564AC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229238-3B94-4E32-B2E7-A3AB7269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B3E96-1697-4CD3-9BE4-8BC567A3410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D3EC5-FC78-4575-A748-4B7C44E8045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8CE1E-343B-497C-9DE6-650DCE29C4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B5641-2B95-4DC2-B7BA-C7896E19C5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DD448-21B1-44C8-A1DC-266AEEC83B1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71BFB-5F83-483B-9895-6118377DF8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60665-1D61-4286-8DA3-984EC7445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597B2-A31E-43C2-A9D1-2AEB060D3D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8E9BF-7DE6-4C54-8667-0C327D6805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4E0EB-72BD-4705-A2E5-58F75930CF1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DC23D-9969-46ED-94E0-95A353A3E92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9F131-19F5-4CC9-997F-F30B01A5C1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4A49C-13D8-44C8-9C62-9577F2F4CEA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64B6A-0D6F-4377-AAC3-D85D79E97F8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5122B-4C7D-4554-97C1-F6AC1E8ADB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EF449-7CB4-4308-95B6-7B441395E4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43FCD-34B4-42A7-9108-943AF26FFC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A1BF2-C11B-4DE2-9DB1-571DC2AE90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0909-9B18-4F7E-87D4-1A3A0D17D5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D42F4-4E81-4954-9C38-01ABD9308D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7DCE2-D297-45E4-816E-1C3EF809213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8EC35-A53F-4475-8D9A-481C7DDE78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78712-DBC2-4179-9715-E18AB784CA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CBD17-EE6B-4043-8E03-FA90ACAC83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9B13F-16FD-463B-A742-84960BECE6E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1AF3A-8D0E-48E5-9FD1-38469FBD31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F6D6EF-E236-41CE-B440-CCC6CC9DCD4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BEB219-4FB8-4A3F-B83E-53E438479D8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2D79CA-864E-489C-B9CE-6AAB641480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80447-39BE-4E47-A840-3709A418333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5C3B9-8CDA-4ABC-BDC7-4CB90CF344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6066F3-8E7C-4A6F-914F-C32DB790A9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5CF7D-7ED6-4275-9222-4F1F3C28923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597500-568C-4C03-8110-43B0F05A15C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0DCD4-E7C3-4773-96A8-42A9CEA74F2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C8D5F-E902-4588-B784-FFDE4BA92E8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960B37-32B4-4ED8-805A-74EE7AAF1AF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EF0B4-88D4-4A11-8019-F19B1875859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43E4F5-C498-4C78-B19D-AFA86B48C82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DA86E-0291-4386-A5FA-0AB8F93978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87916-BDA9-4FF5-BABE-902554A195B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92FA5-5D74-40C7-9B29-4C6F2960CFF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2277D-9313-402E-BE0A-850A54E8BF3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8D8E1-BAEB-4F27-8E76-0529E9841E6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FAF18-EDB4-4FD0-B969-82AD9784CFF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8BBE5-8C01-44AD-A5A6-0D16F53B230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EB32-C052-4B59-BF32-918D76AEE9E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D86C0-8C1A-456A-9573-E753D1F7A22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3B5BE-C96C-4999-BA19-947F7C6E9D6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A76E2-7EE7-45AD-8D4F-A5914474297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5A034-A33E-434C-8B0E-6BB6D529D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237C8-479F-4D6C-839F-2D89CE8A073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87F63-0874-451C-8F11-07D7BBD7AC0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FF324-1424-47CB-A248-F9C28917705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9A3B6-94C9-489A-86B4-AF86687F624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21A1E-AA7D-4A15-B78E-47BE1863D23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2C14D-1005-499E-9535-F1D13E2F883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FAF32-814C-40DE-9AE2-F18D4E8715C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3417C-6FD9-4C9C-9299-B8B25881CAE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58BBB-AE2C-4508-848B-157DD1A4409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FC6C5-9DE1-4E93-862B-50D5987806A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CC0F-94C8-4092-B8A5-91A362BE48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BAB2A-4368-4AED-84AB-B12A70A4912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93E01-1A14-4055-BCF2-DADCB7EDE9F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716C7-F03F-4625-96E1-A3E89F9ED77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61BC1-2378-4DAA-A3F4-028715B2997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CC2E0B-BAEE-4739-B00A-68B60D5A6C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B1A0AC-5AB6-43FC-8C2D-7D93AECA3A1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8E19A-2122-4147-94F7-21618EA5A15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E34AA4-A0DF-4924-A50D-B32A42A75A6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AA341-908D-4B0D-94F7-63B088B9D6E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E9959C-FD3C-4265-8182-1C6BA02CABE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9B4F6D-C2BC-41B3-89D2-FE4894E914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B88D-BE4F-4068-AEE9-ECCF0D843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B15C3-862B-4A4A-A178-D1236C0466E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AF108-B30F-4BC3-9BF9-50AD54572E1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00BE2F-D729-48CE-8326-60CB677C2C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0459FA-54D1-404F-80A8-579C12E7498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FF4E1D-82CF-413D-8C9E-10945A7ED23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67D7FA-C00C-430D-B22E-777CB91791D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B9AF53-4A29-4DFF-91DB-2BA11ADEFBB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EA5383-3E31-4049-92A9-66F9442DDA6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C098FB-9C87-46D2-9EA8-BC2D6F99B00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F6473C-4EAE-42B2-9531-A86EF873D4D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16ADE2-2B7B-4725-B182-320C8B7D3C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990FF-7272-4F23-A51C-D51F23A9007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14886E-CC1D-45E1-A95F-3D14B1606E1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CB91D3-2D07-48A0-B446-014A7AB2AD7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F3AAD7-59B5-4699-94D6-6A549C39208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4B5E01-F2F7-4BD6-B9CD-33CA9005ED2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14E1FD-B341-4F62-993E-DDE2F397D4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85028D-9E9B-49E1-933E-A1758D428F6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46DEA6-6263-47E8-AD47-30C13FD7DC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7D597-27CC-45E7-AC9C-C039789A25A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8BA0D-5BBE-4F1C-B1B3-5CA04A5CC7F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E80C1-0871-4C34-8A58-BB0B989B11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114D4-0071-43AE-B390-542FBF8B7F5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97E63-0EFC-45AD-BEF7-41BC38ABF04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91103-4ABB-4843-93FA-F0739F12F50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B02F8-B1F5-487C-8F88-B9693C5D9C7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436D5-2C8A-4D54-9E76-2D83AADF4A5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39CAC-AA43-4F2C-91CC-1711B1A6A39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4F019-89B7-4245-BA49-F01DC438C11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D9AC8-0636-41C6-8450-927AFA77C6F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99ABA-2153-47D6-8B4A-7097A173738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A3DEE-9CEE-4E5E-8D23-DEDC7FE7423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852D54-F27C-4963-94C9-3486E67DFA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BD56D-1B27-4674-9EA7-1786C57B4DF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5F3105-34B9-4012-8E66-7B513B5662F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322A35-AF38-40E1-BA6C-70C1F778792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D8B37A-DE2D-4DB5-ADB0-77EA418DF4D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3129B7-D7AD-49D5-807C-1BB75606618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72BE5E-14FC-4E41-8F82-8BC5AD23168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D83837-7562-4CCD-911F-80261F2E3B0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DE5DA1-C3DE-474F-9516-68FE0C40EF1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635D64-175B-48F9-A5CA-2211D37A914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2D6583-3C0F-4DAE-8F79-60F125296E0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E3B013-F3DE-47FD-9E86-808CF0255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C128-82F7-4C1C-9607-4AE961EFC5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CD7849-B9F2-4B13-8962-94A2BEF36BF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361466-9A10-45BB-AA4F-16FE3881FBF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1635C1-1FC1-4B71-8B24-EF4594DD1D4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147E17-D4F6-4B4D-BC67-A157646A859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C5F271-C5A4-43A8-BC90-D7819A21342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A72DAD-28C6-4D66-B541-1591469F8C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496AFD-8EE8-4E5C-9524-616925973D8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398B55-065B-4913-A565-8D48E376D26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B5BEC5-766B-4409-956E-898AB66C022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65A775-E561-4D78-8AC6-C32927995B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1C2-0F4C-4A10-9E9C-B33122ABE49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21E71B-C35A-4805-B92B-45FA708CE4F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A819F9-AD58-4652-B45F-70FFBF08F43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FD5101-C8E3-4CF3-B480-F7AA7586CD0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6C26A-824D-4848-8804-C8C00EB2321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190D0-A116-4D30-9D06-A82B6504F59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05ECA-D1C9-42A6-9A84-ED46F79E1AD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BB0B9-4E74-4691-AB28-660FB3A52DC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7952E-C85E-430A-B29E-2ABDE594BFC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BD150-3B3B-4B86-ACFE-C85EA318788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4AC79-4A98-49E0-88BA-96B3E17431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0D8-5B39-4D9B-87D3-B059BAEEAB0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87A87-ABB1-4C41-9263-26E8C027212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BA797-E16B-41B0-8D9F-A713D6E2B02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A70FB-5714-4831-BF62-D26587DA1E8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8C1CB-AFB7-465E-ABF3-A033244F384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665A4-0A69-4B3F-8E9D-5D5DDF52587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B2AD21-8C64-415D-AE7D-D8BDD4FF457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B4A4A8-5B9F-43E4-84F4-E898C63E722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BEE638-41A5-46A4-A5A3-29363E3BA8C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9A99CB-DB4C-4DF0-AE07-A53EB956C4D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B6149C-9C6C-4410-A411-FD6FFF23A4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37D0-13CE-4D43-935C-F48924B17D0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BE38B4-43BF-491C-B825-4DCDD0A01C9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D96258-5CD9-4E86-95BF-3AE3B525312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88F601-0BD7-4CBF-A549-62963D92F0E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3A7826-94CC-42BD-9B3B-91EAD4CFB7E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8A3CCB-3714-4AD2-8756-3AFC8972E00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B722C7-F522-4FEE-9111-5FAA317A776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AEFB18-89B8-4D82-8B5D-8B147EF1F78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A5EB83-E49B-4FFA-8C8B-B6F1BE8C021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C938C4-3E40-451E-94EC-4D9DC30B6F7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0D2BD2-5F9C-4C76-9315-E618343C6D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970-21ED-4026-AF12-ADE2329E619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199DE9-7CBE-448C-8567-6FD6E9D3B8E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72AD48-46D5-44BD-BA29-07FF2EA104C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707D7F-A9B9-4970-B260-1EF8F1E1B45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69C686-572B-4ECB-A41D-945097B1CBC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6DDAEF-FDF6-44C3-88D1-127BCCFF573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881A22-EEE3-401C-A06C-4E62EA63EAE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B1EB7E-666F-4F3D-A8AE-AF10D49EEFF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B27DA6-D46A-4FF6-965B-DEDA79F7ABE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2E4830-AB37-4FF5-A960-AB8B9251404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8E074-B561-475E-B21E-AFC2026890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E64C-AB30-465E-918F-2E1E8631845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FE1AF-77FF-42DC-9AEA-070AB5387AC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0DAAC-DCDC-4A9F-B830-F56002EE9D3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19FB6-6F3F-4880-8361-2C8D364B823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A834A-24DF-459F-B1E7-076FCD771FB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C8324-07FA-4539-BE49-6E2A5FD37AB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FF8CB-95D5-47C8-AFA4-A9B709CA4DC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56CAF-1F98-41F2-91BB-0AF4349C4E7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459F4-233D-4C23-917A-E1CEAEDE870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9657C-386F-407E-855B-600E735DFD6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31DFA-FB8F-4350-AB3E-8633AE70D2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0825-0899-4A1B-8D4F-E2E4B42EA8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74A-5D4B-47C1-99AD-B74F0B9830C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F9CD8-253B-488F-BA57-16CB12DEA1F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CC67D2-2EE6-4EDB-B4CB-D10C960ABD8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5013C0-154A-401C-8208-D4EA7FC38C8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F2FB53-E426-42C7-98A5-34A0B008DFB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13818B-9435-45D8-97E6-D9BCA2D2833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2359CA-99F1-4FC0-A423-4789AF42B9A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6CC5FA-27FC-4D93-B6CE-85894E855D1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23BD9EF-FFE4-48A6-AEDB-42827100F57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A4B9C3-113E-4D4A-B68C-FB6D0E32EBC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EF68DC-F423-4BF8-96CD-898B8F8ABC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ED95-D68E-4C06-80C5-807C6140ED9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587AE7-A947-42C8-B478-316ED11924E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55E481-9DA6-47F5-835F-6642562A4A6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D31FDB-C7D8-400B-8DD3-F5305B63AF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A72F-4A00-48FF-89B1-46DE1620D6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90B4-F37B-4A9F-8A1E-3B0BA0A09D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FC04-DC6D-4656-B816-6B198308D6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A28-F801-4CF3-A50C-60A92BB43C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8004-DC5A-4978-8772-85D9A605F9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774CC-BAEC-45E5-80D7-638B8EAB09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762C4-10EF-4DB9-8B3E-3D23334F0E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3DBE4-F08D-4258-8CC8-BAE88756E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510A-9801-44C9-BEA0-02D27B6026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398E4-1C2C-4B33-B01A-7BF3CEA8AF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93F98-5B6D-4E90-8E93-848EBB745F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8B2A3-4D64-4557-9464-065C67F91F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CE666-0685-4429-AF2A-B8CAC9E430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E4078-63B9-4B9B-9F6C-463FB63F5D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002C0-6A9A-4F16-8DE5-3F39061E0A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802AD-B7EE-49DE-9485-63FB9661CC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F9CCF-CD7E-4DCC-8451-EBD0A2E00E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6807A-7271-45DA-A1BE-FB738940B8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34B98-7F27-4457-9E31-18D64AC30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D800-18BB-4A15-8E90-322A25E1CB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92A35-EFE1-4C88-8538-ACADE0BACC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BAFBE-5B1C-48B1-B1C4-F43F51FD05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63B71-C04F-4570-AAFD-093BB41288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4F6BA-5C47-40BA-B84E-DC1A5CC7E5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D7D3C-A863-4ECA-8577-E93D9FE723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FA0EC-AB9C-47FD-A86F-6CC0935C21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817CE-39BC-40D3-94B8-022D23C460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2EAAD-06DE-493F-9110-59295E99F1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C763F-8ECF-471B-8CEC-9625472763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3371A-27A8-4D01-9053-34CFE4CF5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A85A-28C3-49F6-ABD1-985506BB11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DE576-0CCE-42D2-A660-B591825FA4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A1DF-7CB5-4FBB-A933-9EF351AFBB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BD2B-D0B3-45DA-9900-79AF08FFE2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4984-31E1-4C67-A088-CCE9A36FDF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E5B4-060F-45E6-AC07-98E3C0F74D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121A-5B61-4F42-AD6B-0373F4470D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4E92-43D6-4D03-8362-FA6C3C7E29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A68E-AB0B-4910-A04B-D08F25A326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0DCA-AEBB-494E-81BE-7D733A02A3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AEEF-03AF-4585-A68C-A8395D7A2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B149-D601-4C9F-8C34-0007C59A7E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CE20-7BAB-4104-86AC-85F7A51B1C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AC9A-22AD-460B-B5CE-AD05996FF0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BF4D-8FD5-4A7B-BE17-01B67B399A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49E02-328F-4A69-8919-A99621EE31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F05F8-AF1E-4CDA-864E-45462418242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FD086-BA93-4204-8378-A5FE065CEA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A3AB6-1CD7-4717-8CD4-3D0727AF4E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907A2-AF62-45B7-8428-0F33ACBDC0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1B185-C710-4F01-8E36-5355BD3A62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33913-5482-441B-90C4-B892EF265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37DC-2074-4596-AC74-EDF95EB948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9846C-4D2D-4010-837C-092FEDC98C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D9929-F9BB-4549-9A7F-B09354A8D6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51370-C51C-4A94-9A4A-555E2E7A80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5541C-8C79-4174-A9F7-CD7B9C41EF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3CFE4-E124-4953-BC70-2822D431E9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CFE26-3E02-4044-ACC3-0181817A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5384E-8AAA-4A24-8C0B-CEFF67F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09BB7-FB13-44A4-ABBC-6FC99511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5150E-2EAE-4EE9-A892-01F64F32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B56E0-7095-40BA-A5F2-26743C7A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7CBA-FB7E-4A9E-8699-9944CF70BD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195640" y="198000"/>
            <a:ext cx="669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73A6F-D623-4D37-9319-D79EF5BD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8B914-7165-4F67-947A-1883792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44789-5AB0-432B-A712-A24B273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380FA-4DC9-4503-9AC5-1FA29AC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362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C7A18-76E4-406E-A191-CCB86E1D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2640" y="134136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2640" y="3935880"/>
            <a:ext cx="40809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3461C-4BAC-4083-9ACF-B3DA7439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464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12080" y="134136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464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12080" y="3935880"/>
            <a:ext cx="2692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B1C41-481F-47FD-A2E3-CA044D5B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F0CFB-A321-4F30-B2A4-752A1064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0EBA4-99BA-4E14-9A5F-A811FC9D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46FC6-9F5D-4D57-A665-6BE35A3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C626-ACD0-48E2-A3A5-E94F9EB16E37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Picture 2" descr="C:\Users\ExternalRelations\Desktop\_logoESN.png"/>
          <p:cNvPicPr/>
          <p:nvPr/>
        </p:nvPicPr>
        <p:blipFill>
          <a:blip r:embed="rId6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CE56-389B-4B1A-88E5-64A25301087C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2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3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6D3-E329-48CC-8357-C28D1D59722A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A93-F950-4CA8-B2F7-91154A5FA472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78A-E1A3-4FA7-9872-E0653B357EEF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2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5CF-9302-4948-A6F1-37014582BF64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889-9AAD-45CA-B314-B7254F28A8B8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3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3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A5E4-2B71-4D53-B5C9-6D08A202A6E8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3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3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50B-4D10-4176-9FE1-E76A87822F3B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1A07-C1BC-4C10-AF7F-DD5F8C5DE83F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3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3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2CD3-E7F3-4B05-A77A-D188DFC10006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3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1749-3CBA-4013-A3C3-2C20DCBB3A13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4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4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6203-305C-41EC-A805-B4C0785DAC8C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-36360" y="-6480"/>
            <a:ext cx="2195280" cy="686448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e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195640" y="1341360"/>
            <a:ext cx="6697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3479-2FEE-49B8-B6B4-44047519D42E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ExternalRelations\Desktop\_logoESN.png"/>
          <p:cNvPicPr/>
          <p:nvPr/>
        </p:nvPicPr>
        <p:blipFill>
          <a:blip r:embed="rId6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4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E998-9A26-439E-825F-5D3BA8652353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4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4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E96-3CC6-4CBA-859E-CF78E98A6677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4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B48F-C942-4DBE-8FCF-E67A5B790221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ftr" idx="4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sldNum" idx="5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24FA-64B0-449A-90E5-76AF6A189EC0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5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065-58A3-4668-8C4E-EBEA416F326D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ftr" idx="5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sldNum" idx="5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984-35E1-4090-80E0-692C68A658F0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ftr" idx="5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sldNum" idx="5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99C-CE8E-4189-B484-B37D91489881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3e0"/>
            </a:gs>
            <a:gs pos="100000">
              <a:srgbClr val="00ae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E69-94EB-432A-A7A0-891C24BF7360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0084"/>
            </a:gs>
            <a:gs pos="100000">
              <a:srgbClr val="ec00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DFF-6B19-43FE-8F0C-646D1B78DF63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690b"/>
            </a:gs>
            <a:gs pos="100000">
              <a:srgbClr val="f47b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0BA-9E39-4C26-8E2F-CAC9D453404F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b63c"/>
            </a:gs>
            <a:gs pos="100000">
              <a:srgbClr val="7bc1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E:\josefin\PPT2\ppt\quarter_white.png"/>
          <p:cNvPicPr/>
          <p:nvPr/>
        </p:nvPicPr>
        <p:blipFill>
          <a:blip r:embed="rId2"/>
          <a:stretch/>
        </p:blipFill>
        <p:spPr>
          <a:xfrm>
            <a:off x="78120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DEF-CA93-443B-9B83-EFAC9FDFDAC7}" type="slidenum">
              <a:rPr b="0" lang="sv-SE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6EA-F284-4211-9697-7B20752D51CD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C:\Users\ExternalRelations\Desktop\_logoESN.png"/>
          <p:cNvPicPr/>
          <p:nvPr/>
        </p:nvPicPr>
        <p:blipFill>
          <a:blip r:embed="rId4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80D-6259-4293-B80A-91A5C4AABF4F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6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7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85D6-5F29-49D8-8264-1918424464E9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0" y="-6480"/>
            <a:ext cx="9158400" cy="339840"/>
          </a:xfrm>
          <a:prstGeom prst="rect">
            <a:avLst/>
          </a:prstGeom>
          <a:gradFill rotWithShape="0">
            <a:gsLst>
              <a:gs pos="0">
                <a:srgbClr val="00a3e0"/>
              </a:gs>
              <a:gs pos="100000">
                <a:srgbClr val="00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3"/>
          <a:stretch/>
        </p:blipFill>
        <p:spPr>
          <a:xfrm>
            <a:off x="0" y="-648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E:\josefin\PPT2\ppt\quarter.png"/>
          <p:cNvPicPr/>
          <p:nvPr/>
        </p:nvPicPr>
        <p:blipFill>
          <a:blip r:embed="rId4"/>
          <a:stretch/>
        </p:blipFill>
        <p:spPr>
          <a:xfrm>
            <a:off x="7812000" y="551196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ExternalRelations\Desktop\_logoESN.png"/>
          <p:cNvPicPr/>
          <p:nvPr/>
        </p:nvPicPr>
        <p:blipFill>
          <a:blip r:embed="rId5"/>
          <a:stretch/>
        </p:blipFill>
        <p:spPr>
          <a:xfrm>
            <a:off x="351000" y="104760"/>
            <a:ext cx="1433520" cy="6573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2b3"/>
                </a:solidFill>
                <a:latin typeface="Cambria"/>
              </a:rPr>
              <a:t>Click to edit the title text format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88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DE8-27CA-4EA8-A62E-05A0CA4092F5}" type="datetime">
              <a:rPr b="0" lang="sv-SE" sz="1800" spc="-1" strike="noStrike">
                <a:solidFill>
                  <a:srgbClr val="000000"/>
                </a:solidFill>
                <a:latin typeface="Calibri"/>
              </a:rPr>
              <a:t>26-07-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9"/>
          </p:nvPr>
        </p:nvSpPr>
        <p:spPr>
          <a:xfrm>
            <a:off x="2593800" y="6609960"/>
            <a:ext cx="62056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c008c"/>
                </a:solidFill>
                <a:latin typeface="Calibri"/>
              </a:rPr>
              <a:t>Subject | Name Name, Position | contact@esn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0"/>
          </p:nvPr>
        </p:nvSpPr>
        <p:spPr>
          <a:xfrm>
            <a:off x="2195280" y="6609960"/>
            <a:ext cx="3841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100" spc="-1" strike="noStrike">
                <a:solidFill>
                  <a:srgbClr val="ec00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6B2-B685-4449-8F6F-60EF8DD6E1AC}" type="slidenum">
              <a:rPr b="0" lang="sv-SE" sz="1100" spc="-1" strike="noStrike">
                <a:solidFill>
                  <a:srgbClr val="ec008c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esnpavia.org/" TargetMode="External"/><Relationship Id="rId4" Type="http://schemas.openxmlformats.org/officeDocument/2006/relationships/hyperlink" Target="http://www.esn.it/" TargetMode="External"/><Relationship Id="rId5" Type="http://schemas.openxmlformats.org/officeDocument/2006/relationships/hyperlink" Target="http://www.esn.org/" TargetMode="External"/><Relationship Id="rId6" Type="http://schemas.openxmlformats.org/officeDocument/2006/relationships/image" Target="../media/image4.png"/><Relationship Id="rId7" Type="http://schemas.openxmlformats.org/officeDocument/2006/relationships/hyperlink" Target="mailto:pavia@esn.it" TargetMode="Externa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5777"/>
                </a:solidFill>
                <a:latin typeface="Cambria"/>
              </a:rPr>
              <a:t>ST.E.P. ESN PAVIA</a:t>
            </a:r>
            <a:endParaRPr b="1" lang="en-US" sz="54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55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4006b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b4006b"/>
                </a:solidFill>
                <a:latin typeface="Calibri"/>
              </a:rPr>
              <a:t>Università degli Studi di Pavia</a:t>
            </a:r>
            <a:endParaRPr b="0" lang="en-US" sz="24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82b3"/>
                </a:solidFill>
                <a:latin typeface="Cambria"/>
              </a:rPr>
              <a:t>ESN tasks</a:t>
            </a: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 – After the Erasmu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Help to fight the </a:t>
            </a:r>
            <a:r>
              <a:rPr b="0" i="1" lang="en-GB" sz="3000" spc="-1" strike="noStrike">
                <a:solidFill>
                  <a:srgbClr val="555555"/>
                </a:solidFill>
                <a:latin typeface="Calibri"/>
              </a:rPr>
              <a:t>post Erasmus syndrome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Let you live a multicultural experience in your own city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Welcome who comes back from Erasmus: we need new volunteer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PROJECTS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Local Projects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Info Point e Welcome Month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Welcome Day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Info Marke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Tandem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Theme party (San Nicola, Eurodinner)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Cultural activities (Find Me!, Green Tour, Cineforum)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Trip for the promotion of the local area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Trip for the promotion of the national territory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National and International Project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Social Erasmus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rasmus in School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SN Italy Guide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PRIME (Problem of Recognition In Making Erasmus)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xchangeAbility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duk8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History Book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USEFUL LINK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Contacts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Web site: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ST.E.P. ESN Pavia: </a:t>
            </a:r>
            <a:r>
              <a:rPr b="0" lang="it-IT" sz="2600" spc="-1" strike="noStrike" u="sng">
                <a:solidFill>
                  <a:srgbClr val="1f497d"/>
                </a:solidFill>
                <a:uFillTx/>
                <a:latin typeface="Calibri"/>
                <a:hlinkClick r:id="rId3"/>
              </a:rPr>
              <a:t>www.esnpavia.org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ESN Italia: </a:t>
            </a:r>
            <a:r>
              <a:rPr b="0" lang="it-IT" sz="2600" spc="-1" strike="noStrike" u="sng">
                <a:solidFill>
                  <a:srgbClr val="1f497d"/>
                </a:solidFill>
                <a:uFillTx/>
                <a:latin typeface="Calibri"/>
                <a:hlinkClick r:id="rId4"/>
              </a:rPr>
              <a:t>www.esn.it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ESN International: </a:t>
            </a:r>
            <a:r>
              <a:rPr b="0" lang="it-IT" sz="2600" spc="-1" strike="noStrike" u="sng">
                <a:solidFill>
                  <a:srgbClr val="1f497d"/>
                </a:solidFill>
                <a:uFillTx/>
                <a:latin typeface="Calibri"/>
                <a:hlinkClick r:id="rId5"/>
              </a:rPr>
              <a:t>www.esn.org</a:t>
            </a: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-mail: </a:t>
            </a:r>
            <a:r>
              <a:rPr b="0" lang="it-IT" sz="3000" spc="-1" strike="noStrike" u="sng">
                <a:solidFill>
                  <a:srgbClr val="1f497d"/>
                </a:solidFill>
                <a:uFillTx/>
                <a:latin typeface="Calibri"/>
                <a:hlinkClick r:id="rId7"/>
              </a:rPr>
              <a:t>pavia@esn.it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itle 1"/>
          <p:cNvSpPr/>
          <p:nvPr/>
        </p:nvSpPr>
        <p:spPr>
          <a:xfrm>
            <a:off x="685800" y="243828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5777"/>
                </a:solidFill>
                <a:latin typeface="Cambria"/>
              </a:rPr>
              <a:t>THANKS FOR THE ATTENTION!</a:t>
            </a:r>
            <a:endParaRPr b="0" lang="en-US" sz="5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AGENDA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What is ESN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ESN tasks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Projects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Useful link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WHAT IS ESN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057040" y="19800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What is ESN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3352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It’s one of the biggest students no-profit organization in Europe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Founded in 1989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c008c"/>
                </a:solidFill>
                <a:latin typeface="Calibri"/>
              </a:rPr>
              <a:t>In conjunction with the return of the first Erasmus students</a:t>
            </a:r>
            <a:r>
              <a:rPr b="0" lang="it-IT" sz="2400" spc="-1" strike="noStrike">
                <a:solidFill>
                  <a:srgbClr val="ec008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5555"/>
                </a:solidFill>
                <a:latin typeface="Calibri"/>
              </a:rPr>
              <a:t>Objective: </a:t>
            </a: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to support and to develop exchange between students, and to offer an intercultural experience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 .</a:t>
            </a:r>
            <a:r>
              <a:rPr b="0" lang="it-IT" sz="2600" spc="-1" strike="noStrike">
                <a:solidFill>
                  <a:srgbClr val="555555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c008c"/>
                </a:solidFill>
                <a:latin typeface="Calibri"/>
              </a:rPr>
              <a:t>Also for the students that don’t have the possibility to live an experience abroad (“internationalization at home”)</a:t>
            </a:r>
            <a:r>
              <a:rPr b="0" lang="it-IT" sz="2400" spc="-1" strike="noStrike">
                <a:solidFill>
                  <a:srgbClr val="ec008c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101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55555"/>
                </a:solidFill>
                <a:latin typeface="Calibri"/>
              </a:rPr>
              <a:t>Main principle</a:t>
            </a:r>
            <a:r>
              <a:rPr b="0" lang="en-GB" sz="2800" spc="-1" strike="noStrike">
                <a:solidFill>
                  <a:srgbClr val="555555"/>
                </a:solidFill>
                <a:latin typeface="Calibri"/>
              </a:rPr>
              <a:t>: Student helping student</a:t>
            </a:r>
            <a:r>
              <a:rPr b="0" lang="it-IT" sz="28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057040" y="19800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What is ESN /2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362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More than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12.000</a:t>
            </a: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 volunteer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e0084"/>
                </a:solidFill>
                <a:latin typeface="Calibri"/>
              </a:rPr>
              <a:t>425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local section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(University-based).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ESN exists in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35</a:t>
            </a: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 different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European countrie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Helps over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160.000 students</a:t>
            </a: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 per year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All ESNers are </a:t>
            </a:r>
            <a:r>
              <a:rPr b="0" lang="en-GB" sz="3000" spc="-1" strike="noStrike">
                <a:solidFill>
                  <a:srgbClr val="de0084"/>
                </a:solidFill>
                <a:latin typeface="Calibri"/>
              </a:rPr>
              <a:t>volunteer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Annual growth rate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: </a:t>
            </a:r>
            <a:r>
              <a:rPr b="0" lang="it-IT" sz="3000" spc="-1" strike="noStrike">
                <a:solidFill>
                  <a:srgbClr val="de0084"/>
                </a:solidFill>
                <a:latin typeface="Calibri"/>
              </a:rPr>
              <a:t>12.3 %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057040" y="19800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82b3"/>
                </a:solidFill>
                <a:latin typeface="Cambria"/>
              </a:rPr>
              <a:t>Che cos’è ESN /2</a:t>
            </a:r>
            <a:endParaRPr b="1" lang="en-US" sz="3800" spc="-1" strike="noStrike">
              <a:solidFill>
                <a:srgbClr val="0082b3"/>
              </a:solidFill>
              <a:latin typeface="Cambria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tretch/>
        </p:blipFill>
        <p:spPr>
          <a:xfrm>
            <a:off x="-76320" y="-39600"/>
            <a:ext cx="929664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itle 1"/>
          <p:cNvSpPr/>
          <p:nvPr/>
        </p:nvSpPr>
        <p:spPr>
          <a:xfrm>
            <a:off x="685800" y="190512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5777"/>
                </a:solidFill>
                <a:latin typeface="Cambria"/>
              </a:rPr>
              <a:t>ESN TASKS</a:t>
            </a:r>
            <a:endParaRPr b="0" lang="en-US" sz="6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95640" y="19800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ESN tasks – Before the Erasmu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In Pavia: Info Market. 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c008c"/>
                </a:solidFill>
                <a:latin typeface="Calibri"/>
              </a:rPr>
              <a:t>Informative booths where former Erasmus students / actual foreign students in Erasmus gives all the info about the city where they have been Erasmus / where they come from, in order to help the Italian students that will go on Erasmus</a:t>
            </a: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In the city that will be your destination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ec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c008c"/>
                </a:solidFill>
                <a:latin typeface="Calibri"/>
              </a:rPr>
              <a:t>You can contact the ESN section of the city that will be the destination of your Erasmus: you will surely find important information that will help you</a:t>
            </a:r>
            <a:r>
              <a:rPr b="0" lang="it-IT" sz="2600" spc="-1" strike="noStrike">
                <a:solidFill>
                  <a:srgbClr val="ec008c"/>
                </a:solidFill>
                <a:latin typeface="Calibri"/>
              </a:rPr>
              <a:t> !</a:t>
            </a:r>
            <a:endParaRPr b="0" lang="en-US" sz="2600" spc="-1" strike="noStrike">
              <a:solidFill>
                <a:srgbClr val="ec008c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82b3"/>
                </a:solidFill>
                <a:latin typeface="Cambria"/>
              </a:rPr>
              <a:t>ESN tasks</a:t>
            </a:r>
            <a:r>
              <a:rPr b="1" lang="it-IT" sz="3000" spc="-1" strike="noStrike">
                <a:solidFill>
                  <a:srgbClr val="0082b3"/>
                </a:solidFill>
                <a:latin typeface="Cambria"/>
              </a:rPr>
              <a:t> – During the Erasmus</a:t>
            </a:r>
            <a:endParaRPr b="1" lang="en-US" sz="3000" spc="-1" strike="noStrike">
              <a:solidFill>
                <a:srgbClr val="0082b3"/>
              </a:solidFill>
              <a:latin typeface="Cambri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Improve the social integration of the exchange students: integration both between Erasmus students, and between them and the local community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Organize any kind of activity: buddy / tutor system, Welcome / orientation week, language exchange project (Tandem), cultural and social activities, trips, events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55555"/>
                </a:solidFill>
                <a:latin typeface="Calibri"/>
              </a:rPr>
              <a:t>Help to overcome the difficulties that can be faced during the mobility period</a:t>
            </a:r>
            <a:r>
              <a:rPr b="0" lang="it-IT" sz="3000" spc="-1" strike="noStrike">
                <a:solidFill>
                  <a:srgbClr val="555555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5:52:53Z</dcterms:created>
  <dc:creator>Josefin Svensson</dc:creator>
  <dc:description/>
  <dc:language>en-US</dc:language>
  <cp:lastModifiedBy>Giovanni Zorzoli</cp:lastModifiedBy>
  <cp:lastPrinted>2013-02-13T08:55:17Z</cp:lastPrinted>
  <dcterms:modified xsi:type="dcterms:W3CDTF">2013-06-04T14:48:23Z</dcterms:modified>
  <cp:revision>54</cp:revision>
  <dc:subject/>
  <dc:title>PowerPoint Presentation</dc:title>
</cp:coreProperties>
</file>