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1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D600-E614-458F-94B4-E0319BBC1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ooter Placeholder 1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B55-93B2-40E8-BE87-05FA02AFB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36E4-E9F6-42F6-93C6-73C5C031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3691-F586-4800-9262-053EB56F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A40F-2D68-48CE-AC00-A81386DA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6A78-1499-4FC6-8D67-F2799153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CBA8-9202-4496-87F6-88D2E2A6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F07B-A15D-4788-A096-73AEE7350A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55C8-6145-408D-93DD-4AFCA0CE21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2502-6982-4DB3-8799-9BC0BB0D11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DE84-4459-4614-B34A-F3422DC59F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5ABA-8CF3-4211-B3FB-0BCE22376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04A6-DB41-4398-9EAE-61F45C72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CB44-32F0-4E5C-9546-34E095B7B4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A8D9-C532-4B62-A410-4115E37A91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952-11AC-4210-B209-D78F57059C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888A-988F-4FB4-A0CC-5FDBC73D6F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A05D-E1BA-43E2-B713-AB541BB1FC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858F-32EE-4002-A86E-BBD17E792E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D4C1-BF8E-4E40-A0D4-C51779C5BD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F2FFD-070B-4F6B-920C-78EE028EED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5C7A1-739E-46BD-81BB-A4849FA35B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FCBF5-600A-4E20-BE3E-654609CA9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2E4F-EBDC-46CF-8ABC-6AF50D71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BCBC7-8BC2-44CD-B82D-3F7E1C2B7F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6BB95-95DC-42E9-B504-259760A9A2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9E10C-AA8B-4052-A7C5-C92B2DDACB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83D23-9AAC-41D8-B405-2BCC9968B4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CFCFE-B60D-4E01-99A4-731CC397B9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C6754-B8BD-4068-AF0C-908E8D48CD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3B2A1-A195-42CE-B63D-1D4DDAC044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F6308-9BC0-4762-BB5F-4EE14B0C48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5AF1A-8E3E-4920-B6CE-40AF1CC9C4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B1F75-920C-4107-95DB-3FCC16912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267C-38D9-4D4B-81B9-024C8106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03ED7-1C79-4CD0-9B78-815933714D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AB2CC-51C5-4E16-81D3-6438DCA67A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6FC9F-C121-42EE-9E50-BBDD038AD83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CBFB16-6BAC-4A86-A074-4801A8C9C0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AB064-2D90-4F24-984C-5FC94CBC4E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C993D-D9C2-4DC0-A418-6307DAF3A7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0E27E-EAD5-426D-85A2-01998D334D0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1E7D5-D1AC-4EF1-BABB-35FAA31904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0AB24-44F7-41D1-9652-36A5F6F33E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CCB38-0448-4C97-ABBA-06229ED19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17AB-85D0-45AF-8F3F-5AAA3D2B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61C37-CB5A-4616-82FA-2EEC4E31507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E85C-2321-4813-8017-D5427D5281F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7359-F1CD-4FCF-B980-CF7389192B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4810-A6F2-405A-9B38-132E408A47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91F6-84D5-4BCB-8600-1894D32CF2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9F638-65F2-4C12-8049-5BCBC657EF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4674-4FB5-4086-BE69-ADD5F1E3189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911A-28A8-4F22-861D-B8A318B57A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386D0-D092-4D44-AE91-44433A4CC0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957D3-F6C4-4928-9CFA-98C2F2420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E57B-C327-4607-88B8-2524C9F9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FC04-CF81-4C40-8821-A6994FFB17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DAD4-203F-4B47-81D4-E295380712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ED5F-20CA-4D21-A52F-07DD9CD1F8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51A13-021F-4859-B1A5-D82C2BFD39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942BB-D2BB-4F3C-8FFD-B3E232742D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9E003-CD36-46A0-A256-60B836C387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08F43-09A1-4AEF-9310-442EF7C89D7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58A4A-3244-4E30-81A5-4A5536D6E7F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59FA2-CE01-4500-942A-50A76F789A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68CC9-CB82-4A20-9D7B-84BB50C21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400F-EB2A-465D-B20C-4980220B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A8548-E31B-4629-8EB1-73BF9CFA8AE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42735-185B-4AC8-A5C9-638D570595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5F26C-F974-491B-BFBE-B8E21189DD1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87D5A-A3B5-4B6D-991D-DAEE89F88EE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38F8D-4380-4D0D-9E98-577843E94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6DAB-A04F-44D7-9749-B83F124E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24914538-49F3-4F86-9129-7131C559AE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426360"/>
            <a:ext cx="592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3"/>
          <a:stretch/>
        </p:blipFill>
        <p:spPr>
          <a:xfrm>
            <a:off x="527040" y="5533920"/>
            <a:ext cx="17384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med-motion-1.png"/>
          <p:cNvPicPr/>
          <p:nvPr/>
        </p:nvPicPr>
        <p:blipFill>
          <a:blip r:embed="rId4"/>
          <a:stretch/>
        </p:blipFill>
        <p:spPr>
          <a:xfrm>
            <a:off x="1706400" y="1866960"/>
            <a:ext cx="7442280" cy="496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med-motion.png"/>
          <p:cNvPicPr/>
          <p:nvPr/>
        </p:nvPicPr>
        <p:blipFill>
          <a:blip r:embed="rId5"/>
          <a:stretch/>
        </p:blipFill>
        <p:spPr>
          <a:xfrm>
            <a:off x="6375240" y="496800"/>
            <a:ext cx="235908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D243-F796-42AC-AD8F-5F34A55242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7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8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6F292526-B6DC-4165-9112-99A5D378F1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9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AD1CC7B9-929E-4A4E-8AF8-82D2674F75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96070AE1-9746-40D4-8013-5EF2C99140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4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3E869B6A-9556-4A31-BAED-13FB1935A3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956880"/>
            <a:ext cx="545940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7d1e"/>
                </a:solidFill>
                <a:latin typeface="Calibri"/>
              </a:rPr>
              <a:t>Med-MOTION</a:t>
            </a:r>
            <a:endParaRPr b="0" lang="en-US" sz="60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2276280"/>
            <a:ext cx="46911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tation of the </a:t>
            </a:r>
            <a:endParaRPr b="0" lang="en-US" sz="30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-MOTION project</a:t>
            </a:r>
            <a:endParaRPr b="0" lang="en-US" sz="30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arel VAN LIEMPT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iversity of Antwerp</a:t>
            </a:r>
            <a:endParaRPr b="0" lang="en-US" sz="19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y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2013</a:t>
            </a:r>
            <a:endParaRPr b="0" lang="en-US" sz="19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D240-3864-4B5D-B363-4536A8F42A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Main focus: student mobility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Desk Research mainly concentrated on student mobilit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Basic concept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cademic &amp; administrative mobility follows student mobilit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But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Further </a:t>
            </a:r>
            <a:r>
              <a:rPr b="0" lang="nl-BE" sz="3200" spc="-1" strike="noStrike" u="sng">
                <a:solidFill>
                  <a:srgbClr val="595959"/>
                </a:solidFill>
                <a:uFillTx/>
                <a:latin typeface="Calibri"/>
              </a:rPr>
              <a:t>concrete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 actions on academic &amp; administrative mobility to be undertake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D909-48A7-49A7-A5D9-735DD195CF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0C45-5F96-48BA-8BB3-9BCA04253A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How to proceed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The importance of the Deans’ Meet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The need for a faculty strategy on mobilit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re we ready to opt for unconventional solutions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7A5A-523F-4786-A789-A5D66490CA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D8B0-3B71-46D9-9658-D246832794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Importance of the 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Deans’ Meeting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Significant change can only be achieved with the support of the Faculty Managemen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Formal approval of the Mobility Work Plan at the Deans’ Meeting September 2012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= a </a:t>
            </a:r>
            <a:r>
              <a:rPr b="0" lang="nl-BE" sz="3200" spc="-1" strike="noStrike" u="sng">
                <a:solidFill>
                  <a:srgbClr val="595959"/>
                </a:solidFill>
                <a:uFillTx/>
                <a:latin typeface="Calibri"/>
              </a:rPr>
              <a:t>commitment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 for the implementation of the proposals formulated in the Mobility Work Pla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D4A4-BA56-4DB2-A0A8-8BD82B0E0B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5391-6A87-4AC1-8EAA-24C4BCB56B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152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The need for a faculty strategy on mobility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 strategy on mobility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= the starting point &amp; basis for further actions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= a guideline for the whole faculty communit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ll partners are asked to commit themselves to finalise a mobility strategy by January 1, 2013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A078-0B5A-4F7D-9BD5-C78DECAB45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30A6-C960-44DB-86CB-5B30B2BBB7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(Un)Conventional solution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Examples of conventional solutions are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Working on a correct use of ECTS rul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Trying to eliminate administrative obstacles as much as possible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Improving communication procedur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2CBA-8F23-42AA-9B2C-EEED5A4764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BD58-2DA1-47D1-BA55-096B851C62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Ready for unconventional </a:t>
            </a:r>
            <a:br>
              <a:rPr sz="4000"/>
            </a:b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solutions?</a:t>
            </a:r>
            <a:br>
              <a:rPr sz="4000"/>
            </a:br>
            <a:endParaRPr b="0" lang="en-US" sz="40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onventional solutions are necessary but not enough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More profound cooperation with preferential partners is desirabl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Prof. Van Royen (Dean of UAntwerp) suggested and discussed unconventional examples of further cooper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E0BC-DECC-4412-B745-02F76212E9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C0C3-84A5-4AFB-A2F4-90E09E9D1E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Further actions =  5 Pilots/1</a:t>
            </a:r>
            <a:br>
              <a:rPr sz="4400"/>
            </a:b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Proposal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ommon course “Infectious Diseases” Pari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Research train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linical clerckship/rotat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dministrative staff training week Berli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Summer School September 2013 Paris – Berli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Joint programme at one sit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D0DB-AEC7-461B-B51A-CE935A5B8A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C7D3-0745-4798-89DF-9C60D3F455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Further actions =  5 Pilots /2</a:t>
            </a:r>
            <a:br>
              <a:rPr sz="4400"/>
            </a:b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Start organisation in the 2nd working year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ooperation of small partners’ group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One leader per pilo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meetings held in Spring 2013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4F49-1A6E-4581-94C2-BE23D3AC4F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3103-1FB5-4D8A-A451-D3BA52F436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1. Organisation of common 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course unit – at several site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836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Organised by Paris Descartes, Edinburgh and Sacre Cuore Rom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Meeting held in February 2013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Common course unit on ‘Infectious diseases’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with clear learning outcom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allocation of ECTS credit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academic mobility (academic staff, lecturers) 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also possible through virtual mobility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4" name="Footer Placeholder 1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4293-8840-4C4B-8F6A-C8A0D0F810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2. Organisation of research 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work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Organised by Karolinska Insitute Stockholm, Semmelweis Budapest and UAntwerp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In most curricula allocated time for research work (15-30 ECTS)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Excellent research units in the partner universiti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Mobility of students </a:t>
            </a:r>
            <a:r>
              <a:rPr b="0" lang="nl-BE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 spend (part of) research work at partner university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633E-7C01-4C0B-9C07-57DC13174F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What did I say last year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New evolutions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What do I expect form ECST-Ma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8" name="Tijdelijke aanduiding voor voettekst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jdelijke aanduiding voor dianumm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7030-23FC-432C-9A83-B7ACEEFABB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3. Organisation of clerkships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in partner universitie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Organised by UAntwerp, Karolinska Insitute Stockholm, Charité Berlin and Sacre Cuore Rom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Organisation of a pool of clerkships (clinical training) at each institu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well defined training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skils  &amp; outcom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Allocation of ECTS credit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Meeting in March 2013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2" name="Tijdelijke aanduiding voor voettekst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1FE2-A359-4960-86D2-A782639BC3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http://www.md.utoronto.ca/Assets/FacMed+Digital+Assets/ume/Images/Clerkship.jpg"/>
          <p:cNvPicPr/>
          <p:nvPr/>
        </p:nvPicPr>
        <p:blipFill>
          <a:blip r:embed="rId1"/>
          <a:stretch/>
        </p:blipFill>
        <p:spPr>
          <a:xfrm>
            <a:off x="4572000" y="350028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4B0B-5AB5-4C9A-95B8-97306C92D6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4. Administrative staff training</a:t>
            </a:r>
            <a:br>
              <a:rPr sz="4000"/>
            </a:b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 week</a:t>
            </a:r>
            <a:endParaRPr b="0" lang="en-US" sz="40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alibri"/>
              </a:rPr>
              <a:t>Organised by Charité Berlin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Mobility of administrative staff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Label of Med-Motion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5. Joint Summer school</a:t>
            </a:r>
            <a:endParaRPr b="0" lang="en-US" sz="40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alibri"/>
              </a:rPr>
              <a:t>Organised by Charité Berlin &amp; Paris Descarte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Student and academic staff mobility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Emergency Medicine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4d4d4d"/>
                </a:solidFill>
                <a:latin typeface="Calibri"/>
              </a:rPr>
              <a:t>New methodology “Serious Games”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Label of Med-Motion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16B8-F4AF-4A64-9EE5-DDCD9115AE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6865-B3A8-4266-B1C8-CF274A0210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6. Joint programme at one site </a:t>
            </a:r>
            <a:endParaRPr b="0" lang="en-US" sz="40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Creation of a joint program (clearly expressed in learning outcomes ) for one semester (30ECTS) or one year (60 ECTS)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Transcending the diversity : no harmonisation of the curriculum but formulation of learning outcom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For excellent students- learning in antoher educational environment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Deleted op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3537-32EE-4505-A32E-2B10506D7C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2CB7-7052-42CF-A800-91E310B890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Further actions =  5 Pilots/3</a:t>
            </a:r>
            <a:br>
              <a:rPr sz="4400"/>
            </a:b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Working year 3 (Oct. 2013 – Sept. 2014)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Full implementation of the pilots at every medical institut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First evaluation before end of projec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F971-9C51-4F56-A294-C172817C2E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7d1e"/>
                </a:solidFill>
                <a:latin typeface="Calibri"/>
              </a:rPr>
              <a:t>What do I expect from ECTS-MA?</a:t>
            </a:r>
            <a:endParaRPr b="0" lang="en-US" sz="2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Med Motion is looking for a stable partner in order to dissiminate and implement conclusions of Med-Motion project new interested medical facultie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re you interested in the solutions Med-Motion proposes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Is it useful to have a contact ECTS-MA – Med-Motion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2" name="Tijdelijke aanduiding voor voettekst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ijdelijke aanduiding voor dianumm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2135-7431-45A7-AACC-1F1D330D4B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E6E7-EE8D-4FD7-A70E-90547F418D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6562800" cy="14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Thank you for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 your attention!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2708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Karel VAN LIEMP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08CE-D044-4214-8179-005EB3DF5F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674C-6792-4AE6-BA1C-F0E3B66AB0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Project Life Long Learning Programm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Duration: 3 three years (1/10/2011 – 30/09/2014)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Cooperation with partners of other European projects, such as CHarMe and IMS2020 projects – Charité: project coordinator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C6A-D380-4C6E-B01E-DA5312C721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Med-Motion Partner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836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Universiteit Antwerpen </a:t>
            </a:r>
            <a:r>
              <a:rPr b="0" lang="nl-BE" sz="2000" spc="-1" strike="noStrike">
                <a:solidFill>
                  <a:srgbClr val="595959"/>
                </a:solidFill>
                <a:latin typeface="Calibri"/>
              </a:rPr>
              <a:t>(coordinator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Charité Universitätsmedizin Berlin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Karolinska Institute Stockholm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Paris Descarte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University of Sacre Cuore Rome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Semmelweis University Budapest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University of Edinburgh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EMSA- Antwerp </a:t>
            </a:r>
            <a:r>
              <a:rPr b="0" lang="nl-BE" sz="2000" spc="-1" strike="noStrike">
                <a:solidFill>
                  <a:srgbClr val="595959"/>
                </a:solidFill>
                <a:latin typeface="Calibri"/>
              </a:rPr>
              <a:t>(Students organisation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Brussels Education Services Belgium </a:t>
            </a:r>
            <a:r>
              <a:rPr b="0" lang="nl-BE" sz="2000" spc="-1" strike="noStrike">
                <a:solidFill>
                  <a:srgbClr val="595959"/>
                </a:solidFill>
                <a:latin typeface="Calibri"/>
              </a:rPr>
              <a:t>(monitoring role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FEAM (Federation of European Academies of Medicine) </a:t>
            </a:r>
            <a:r>
              <a:rPr b="0" lang="nl-BE" sz="2000" spc="-1" strike="noStrike">
                <a:solidFill>
                  <a:srgbClr val="595959"/>
                </a:solidFill>
                <a:latin typeface="Calibri"/>
              </a:rPr>
              <a:t>(Dissemination role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F736-3BE3-4919-B938-8050CFC513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Purpose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EC projects: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Med-Motion: to increase Mobility of students </a:t>
            </a:r>
            <a:r>
              <a:rPr b="0" lang="nl-BE" sz="2800" spc="-1" strike="noStrike" u="sng">
                <a:solidFill>
                  <a:srgbClr val="595959"/>
                </a:solidFill>
                <a:uFillTx/>
                <a:latin typeface="Calibri"/>
              </a:rPr>
              <a:t>and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 staff → administrative and academic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in a framework which allow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- more in depth collabor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- at a smaller scale, complementary to T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- full engagement of partner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Innovative character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ctive involvement of students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student organisation EMSA is partner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Important role of faculty leadership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4" name="Tijdelijke aanduiding voor voettekst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jdelijke aanduiding voor dianumm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8DFD-4076-481B-952B-59358624E1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6FC4-65C8-4AE2-AA17-5E057C82D6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From</a:t>
            </a: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 Desk Research </a:t>
            </a: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to</a:t>
            </a:r>
            <a:br>
              <a:rPr sz="40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Mobility Work Plan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64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= The main objective of the 1st working year of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Med-MO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Basi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outcomes of Charme project: curriculum overview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Desk Research : surveys done by students &amp; administrative staff during the 1st semester of work year 2011–2012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a short survey on academic mobility in a small group of academic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revealed problems + obstacles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9707-F2D5-4CAD-A8BB-B101B9AB56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D25D-AFA4-4692-A812-5C9D596CCB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The problem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Revealed problems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The lack of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tandardisation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 in registering student mobility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The ambiguity of terminology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Proposed solutions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Focus on the ERASMUS mobility upcoming standard (3 months or 15 ECTS)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Agree upon a glossary in MWP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2227-8C48-471B-9E9B-DED4426D35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81F0-8FFB-44FD-8713-84A753839D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The obstacle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Revealed obstacles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Differences between curricula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Language barrier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Procedur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Recognition/fear of study delay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Financial barrier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fr. Results of ESN study report 2011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8486-B3F6-4047-B30B-DD0D6EAFDA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5:56:10Z</dcterms:created>
  <dc:creator>Guido Erreygers</dc:creator>
  <dc:description/>
  <dc:language>en-US</dc:language>
  <cp:lastModifiedBy>*</cp:lastModifiedBy>
  <dcterms:modified xsi:type="dcterms:W3CDTF">2013-04-30T13:38:40Z</dcterms:modified>
  <cp:revision>56</cp:revision>
  <dc:subject/>
  <dc:title>PowerPoint Presentation</dc:title>
</cp:coreProperties>
</file>