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1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7d1e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ftr" idx="16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ation of the Med-MOTION project - 21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 type="sldNum" idx="17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9535-87D9-4615-99D4-098F6712EB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Footer Placeholder 1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ation of the Med-MOTION project - 2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1E10-F1D5-4DF5-97E1-87CD7AFE72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ooter Placeholder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ation of the Med-MOTION project - 2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F9503-9F96-4C37-A59A-58C0765F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38E9F-B573-4569-843B-C9DADB6F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CFDAD-3742-49DD-B718-6F33BCEE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DAAF5-AB48-4770-A34F-0A1FAC53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F6197-BAC5-4B05-B7BF-05B1DBB6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2A1B-63DC-4094-B25A-B921F68EF1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7A41-1E24-48E1-914F-BBFA0FFE5D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3735-0CFD-459E-8319-15B492BA6F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8E0A-3A0D-444B-B64C-B87B21AEAC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9D5C-CC56-4050-9764-772C6F495F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1ABE0-50AF-4A99-9431-C70F037A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9F2A-BCA9-4EC1-BBD2-C7A747595E3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5125-B631-413C-B88C-D2AE9F22A1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5EE0-207E-4DE4-A1A0-C7A77C106E6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C2A3-6435-44B8-BB02-B989F5C8D4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B5BB-4D68-4D5E-A0DA-8A07A6A305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ADE4-A958-4215-9615-D018E945CF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DBE8-ECAB-413E-8CB9-A7DBB8716FB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3CAF92-4644-45C9-ADBD-55F7F947EA6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A79166-7524-4502-B93C-BFF454E320A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81FE8-633C-4A01-9E1C-47639659E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16117-81B2-44F4-9A07-34E11EB5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EBE997-824B-4F60-9BA0-8A162BA3074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9AEF6-F9A3-48F3-9A18-0820DC4B2A4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3E848A-3F2E-4901-9245-4052CF08EB3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2F9934-7ABB-4F12-8D20-865E644802B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CBD82A-D67A-4047-A373-773CDBE6BAC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193264-C55C-459C-B82D-7843D40ACC4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B68BF-4D52-47D8-8A0C-DAF46DA7A36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6C211-887C-4712-A7EA-F80F51295D0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00CA0D-FAE6-4C11-9D99-DB3DCEA6DBC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AB0A57-BC2B-406C-B451-CBBF93FB0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49369-5DAD-419A-9F6A-E53E3AE7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FD008A-EBBB-442B-9B51-20930AB1B42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9419F6-F226-4324-91B6-76389DBB6D0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E80FC6-3258-4730-B165-EC7A9E356E2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278DD1-DED3-4DC5-8113-9DAC5F1CE10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A03939-6EEB-42B1-A934-6481BC39D7A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27C2BF-42CD-4E9E-873A-EC0D856F73A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255EC7-750A-442F-AD2F-618B6E58BE6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0B088E-840A-4C34-9BC8-F978061101A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605E69-73E3-474B-A17C-873791DD9B5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DC169A-3A58-41CA-8B57-E1A7F54FA9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05D99-8B0D-48C5-815C-CBBC9DD5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392F73-1873-4C9F-BBE6-9F5DB4A9FC9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B2F4D-E14C-4CC1-92C0-53AAEC8553F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4CC18-1302-4BEC-B207-D214C5D9A1B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FDB2C-3C0B-42A0-AAD0-5C911291FE5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617AF-CF53-4458-B36A-C044939BE89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73D62-DF1C-4560-8A2E-8CD744AFCB8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BE437-5044-47F4-8BEE-6B557E17F39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6CF7F-8A7C-4ABB-B46C-DC96EAEE21C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ED2BB-C409-43E7-92A9-54F8F5A5CC6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A1568-B5C0-4230-9ADA-5EF1F38B9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8F016-D741-4820-9A29-756C84F4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8243C-E951-46DD-ACF2-71F33B27574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CDF6E-8AB6-4C9F-985F-AAE71F9B06C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4DCF3-B169-4266-A611-1BC8EA45BF0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E20400-6866-406E-9022-5F5022B488A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0BC6C3-C681-4E2C-B69E-3C5C052F379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3F4BDB-174B-41D9-B63E-E6DB9C83A69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C9F3D7-0817-4599-B737-EC760CF92DB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B1F6DB-19DE-4E0B-B2C0-30B7AAC6AD6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CAD784-C5B3-499B-ADCB-696BE6C19F8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AC58AC-B1B2-4AA0-A737-F19C776B2B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74495-C4D6-49B8-A265-6B81C8BF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F238B8-4902-42BC-860E-8DD92EB8ACB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861469-0B75-4CD8-A47A-7C532725ACB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20BA3E-713D-4933-9698-96AB3650DCB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C9077C-4701-4783-87B4-0A3CE8A5B49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793E3D-E739-440A-8EBB-A5890B8DE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B5C4D-7513-4254-A31C-7EA8955F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cument 6"/>
          <p:cNvSpPr/>
          <p:nvPr/>
        </p:nvSpPr>
        <p:spPr>
          <a:xfrm rot="10800000">
            <a:off x="0" y="6273360"/>
            <a:ext cx="9144000" cy="584280"/>
          </a:xfrm>
          <a:custGeom>
            <a:avLst/>
            <a:gdLst/>
            <a:ahLst/>
            <a:rect l="l" t="t" r="r" b="b"/>
            <a:pathLst>
              <a:path w="21600" h="25479">
                <a:moveTo>
                  <a:pt x="0" y="0"/>
                </a:moveTo>
                <a:lnTo>
                  <a:pt x="21600" y="0"/>
                </a:lnTo>
                <a:lnTo>
                  <a:pt x="21600" y="17322"/>
                </a:lnTo>
                <a:cubicBezTo>
                  <a:pt x="21202" y="21355"/>
                  <a:pt x="20824" y="24176"/>
                  <a:pt x="19210" y="24200"/>
                </a:cubicBezTo>
                <a:cubicBezTo>
                  <a:pt x="15961" y="23164"/>
                  <a:pt x="14905" y="18135"/>
                  <a:pt x="11916" y="17464"/>
                </a:cubicBezTo>
                <a:cubicBezTo>
                  <a:pt x="9489" y="16969"/>
                  <a:pt x="5394" y="24777"/>
                  <a:pt x="3350" y="25382"/>
                </a:cubicBezTo>
                <a:cubicBezTo>
                  <a:pt x="1306" y="25987"/>
                  <a:pt x="562" y="23710"/>
                  <a:pt x="0" y="2017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7d1e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7d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ge </a:t>
            </a:r>
            <a:fld id="{0B3526DC-4797-4012-BCEA-88E33D588B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" y="6426360"/>
            <a:ext cx="5927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the Med-MOTION project - 21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Med Motion_logo_green.emf"/>
          <p:cNvPicPr/>
          <p:nvPr/>
        </p:nvPicPr>
        <p:blipFill>
          <a:blip r:embed="rId2"/>
          <a:stretch/>
        </p:blipFill>
        <p:spPr>
          <a:xfrm>
            <a:off x="7342200" y="522360"/>
            <a:ext cx="139392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ocument 6"/>
          <p:cNvSpPr/>
          <p:nvPr/>
        </p:nvSpPr>
        <p:spPr>
          <a:xfrm rot="10800000">
            <a:off x="0" y="6273360"/>
            <a:ext cx="9144000" cy="584280"/>
          </a:xfrm>
          <a:custGeom>
            <a:avLst/>
            <a:gdLst/>
            <a:ahLst/>
            <a:rect l="l" t="t" r="r" b="b"/>
            <a:pathLst>
              <a:path w="21600" h="25479">
                <a:moveTo>
                  <a:pt x="0" y="0"/>
                </a:moveTo>
                <a:lnTo>
                  <a:pt x="21600" y="0"/>
                </a:lnTo>
                <a:lnTo>
                  <a:pt x="21600" y="17322"/>
                </a:lnTo>
                <a:cubicBezTo>
                  <a:pt x="21202" y="21355"/>
                  <a:pt x="20824" y="24176"/>
                  <a:pt x="19210" y="24200"/>
                </a:cubicBezTo>
                <a:cubicBezTo>
                  <a:pt x="15961" y="23164"/>
                  <a:pt x="14905" y="18135"/>
                  <a:pt x="11916" y="17464"/>
                </a:cubicBezTo>
                <a:cubicBezTo>
                  <a:pt x="9489" y="16969"/>
                  <a:pt x="5394" y="24777"/>
                  <a:pt x="3350" y="25382"/>
                </a:cubicBezTo>
                <a:cubicBezTo>
                  <a:pt x="1306" y="25987"/>
                  <a:pt x="562" y="23710"/>
                  <a:pt x="0" y="2017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7d1e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ed Motion_logo_green.emf"/>
          <p:cNvPicPr/>
          <p:nvPr/>
        </p:nvPicPr>
        <p:blipFill>
          <a:blip r:embed="rId2"/>
          <a:stretch/>
        </p:blipFill>
        <p:spPr>
          <a:xfrm>
            <a:off x="7342200" y="522360"/>
            <a:ext cx="1393920" cy="495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"/>
          <p:cNvPicPr/>
          <p:nvPr/>
        </p:nvPicPr>
        <p:blipFill>
          <a:blip r:embed="rId3"/>
          <a:stretch/>
        </p:blipFill>
        <p:spPr>
          <a:xfrm>
            <a:off x="527040" y="5533920"/>
            <a:ext cx="173844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med-motion-1.png"/>
          <p:cNvPicPr/>
          <p:nvPr/>
        </p:nvPicPr>
        <p:blipFill>
          <a:blip r:embed="rId4"/>
          <a:stretch/>
        </p:blipFill>
        <p:spPr>
          <a:xfrm>
            <a:off x="1706400" y="1866960"/>
            <a:ext cx="7442280" cy="4965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med-motion.png"/>
          <p:cNvPicPr/>
          <p:nvPr/>
        </p:nvPicPr>
        <p:blipFill>
          <a:blip r:embed="rId5"/>
          <a:stretch/>
        </p:blipFill>
        <p:spPr>
          <a:xfrm>
            <a:off x="6375240" y="496800"/>
            <a:ext cx="2359080" cy="844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7d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ocument 6"/>
          <p:cNvSpPr/>
          <p:nvPr/>
        </p:nvSpPr>
        <p:spPr>
          <a:xfrm rot="10800000">
            <a:off x="0" y="6273360"/>
            <a:ext cx="9144000" cy="584280"/>
          </a:xfrm>
          <a:custGeom>
            <a:avLst/>
            <a:gdLst/>
            <a:ahLst/>
            <a:rect l="l" t="t" r="r" b="b"/>
            <a:pathLst>
              <a:path w="21600" h="25479">
                <a:moveTo>
                  <a:pt x="0" y="0"/>
                </a:moveTo>
                <a:lnTo>
                  <a:pt x="21600" y="0"/>
                </a:lnTo>
                <a:lnTo>
                  <a:pt x="21600" y="17322"/>
                </a:lnTo>
                <a:cubicBezTo>
                  <a:pt x="21202" y="21355"/>
                  <a:pt x="20824" y="24176"/>
                  <a:pt x="19210" y="24200"/>
                </a:cubicBezTo>
                <a:cubicBezTo>
                  <a:pt x="15961" y="23164"/>
                  <a:pt x="14905" y="18135"/>
                  <a:pt x="11916" y="17464"/>
                </a:cubicBezTo>
                <a:cubicBezTo>
                  <a:pt x="9489" y="16969"/>
                  <a:pt x="5394" y="24777"/>
                  <a:pt x="3350" y="25382"/>
                </a:cubicBezTo>
                <a:cubicBezTo>
                  <a:pt x="1306" y="25987"/>
                  <a:pt x="562" y="23710"/>
                  <a:pt x="0" y="2017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7d1e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Med Motion_logo_green.emf"/>
          <p:cNvPicPr/>
          <p:nvPr/>
        </p:nvPicPr>
        <p:blipFill>
          <a:blip r:embed="rId2"/>
          <a:stretch/>
        </p:blipFill>
        <p:spPr>
          <a:xfrm>
            <a:off x="7342200" y="522360"/>
            <a:ext cx="1393920" cy="495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7d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5"/>
          </p:nvPr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the Med-MOTION project - 21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65527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D0C4-FD70-4F39-95D9-D3235683F7A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ocument 6"/>
          <p:cNvSpPr/>
          <p:nvPr/>
        </p:nvSpPr>
        <p:spPr>
          <a:xfrm rot="10800000">
            <a:off x="0" y="6273360"/>
            <a:ext cx="9144000" cy="584280"/>
          </a:xfrm>
          <a:custGeom>
            <a:avLst/>
            <a:gdLst/>
            <a:ahLst/>
            <a:rect l="l" t="t" r="r" b="b"/>
            <a:pathLst>
              <a:path w="21600" h="25479">
                <a:moveTo>
                  <a:pt x="0" y="0"/>
                </a:moveTo>
                <a:lnTo>
                  <a:pt x="21600" y="0"/>
                </a:lnTo>
                <a:lnTo>
                  <a:pt x="21600" y="17322"/>
                </a:lnTo>
                <a:cubicBezTo>
                  <a:pt x="21202" y="21355"/>
                  <a:pt x="20824" y="24176"/>
                  <a:pt x="19210" y="24200"/>
                </a:cubicBezTo>
                <a:cubicBezTo>
                  <a:pt x="15961" y="23164"/>
                  <a:pt x="14905" y="18135"/>
                  <a:pt x="11916" y="17464"/>
                </a:cubicBezTo>
                <a:cubicBezTo>
                  <a:pt x="9489" y="16969"/>
                  <a:pt x="5394" y="24777"/>
                  <a:pt x="3350" y="25382"/>
                </a:cubicBezTo>
                <a:cubicBezTo>
                  <a:pt x="1306" y="25987"/>
                  <a:pt x="562" y="23710"/>
                  <a:pt x="0" y="2017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7d1e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Med Motion_logo_green.emf"/>
          <p:cNvPicPr/>
          <p:nvPr/>
        </p:nvPicPr>
        <p:blipFill>
          <a:blip r:embed="rId2"/>
          <a:stretch/>
        </p:blipFill>
        <p:spPr>
          <a:xfrm>
            <a:off x="7342200" y="522360"/>
            <a:ext cx="1393920" cy="4953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7d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7"/>
          </p:nvPr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the Med-MOTION project - 21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8"/>
          </p:nvPr>
        </p:nvSpPr>
        <p:spPr>
          <a:xfrm>
            <a:off x="65527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ge </a:t>
            </a:r>
            <a:fld id="{8F36B6D3-CBE1-4D0F-A97F-30B268E5224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ocument 6"/>
          <p:cNvSpPr/>
          <p:nvPr/>
        </p:nvSpPr>
        <p:spPr>
          <a:xfrm rot="10800000">
            <a:off x="0" y="6273360"/>
            <a:ext cx="9144000" cy="584280"/>
          </a:xfrm>
          <a:custGeom>
            <a:avLst/>
            <a:gdLst/>
            <a:ahLst/>
            <a:rect l="l" t="t" r="r" b="b"/>
            <a:pathLst>
              <a:path w="21600" h="25479">
                <a:moveTo>
                  <a:pt x="0" y="0"/>
                </a:moveTo>
                <a:lnTo>
                  <a:pt x="21600" y="0"/>
                </a:lnTo>
                <a:lnTo>
                  <a:pt x="21600" y="17322"/>
                </a:lnTo>
                <a:cubicBezTo>
                  <a:pt x="21202" y="21355"/>
                  <a:pt x="20824" y="24176"/>
                  <a:pt x="19210" y="24200"/>
                </a:cubicBezTo>
                <a:cubicBezTo>
                  <a:pt x="15961" y="23164"/>
                  <a:pt x="14905" y="18135"/>
                  <a:pt x="11916" y="17464"/>
                </a:cubicBezTo>
                <a:cubicBezTo>
                  <a:pt x="9489" y="16969"/>
                  <a:pt x="5394" y="24777"/>
                  <a:pt x="3350" y="25382"/>
                </a:cubicBezTo>
                <a:cubicBezTo>
                  <a:pt x="1306" y="25987"/>
                  <a:pt x="562" y="23710"/>
                  <a:pt x="0" y="2017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7d1e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Med Motion_logo_green.emf"/>
          <p:cNvPicPr/>
          <p:nvPr/>
        </p:nvPicPr>
        <p:blipFill>
          <a:blip r:embed="rId2"/>
          <a:stretch/>
        </p:blipFill>
        <p:spPr>
          <a:xfrm>
            <a:off x="7342200" y="522360"/>
            <a:ext cx="1393920" cy="4953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7d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9"/>
          </p:nvPr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the Med-MOTION project - 21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0"/>
          </p:nvPr>
        </p:nvSpPr>
        <p:spPr>
          <a:xfrm>
            <a:off x="65527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ge </a:t>
            </a:r>
            <a:fld id="{4D8ECE61-8958-44AD-AEAC-2ADF4F1856A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ocument 6"/>
          <p:cNvSpPr/>
          <p:nvPr/>
        </p:nvSpPr>
        <p:spPr>
          <a:xfrm rot="10800000">
            <a:off x="0" y="6273360"/>
            <a:ext cx="9144000" cy="584280"/>
          </a:xfrm>
          <a:custGeom>
            <a:avLst/>
            <a:gdLst/>
            <a:ahLst/>
            <a:rect l="l" t="t" r="r" b="b"/>
            <a:pathLst>
              <a:path w="21600" h="25479">
                <a:moveTo>
                  <a:pt x="0" y="0"/>
                </a:moveTo>
                <a:lnTo>
                  <a:pt x="21600" y="0"/>
                </a:lnTo>
                <a:lnTo>
                  <a:pt x="21600" y="17322"/>
                </a:lnTo>
                <a:cubicBezTo>
                  <a:pt x="21202" y="21355"/>
                  <a:pt x="20824" y="24176"/>
                  <a:pt x="19210" y="24200"/>
                </a:cubicBezTo>
                <a:cubicBezTo>
                  <a:pt x="15961" y="23164"/>
                  <a:pt x="14905" y="18135"/>
                  <a:pt x="11916" y="17464"/>
                </a:cubicBezTo>
                <a:cubicBezTo>
                  <a:pt x="9489" y="16969"/>
                  <a:pt x="5394" y="24777"/>
                  <a:pt x="3350" y="25382"/>
                </a:cubicBezTo>
                <a:cubicBezTo>
                  <a:pt x="1306" y="25987"/>
                  <a:pt x="562" y="23710"/>
                  <a:pt x="0" y="2017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7d1e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Med Motion_logo_green.emf"/>
          <p:cNvPicPr/>
          <p:nvPr/>
        </p:nvPicPr>
        <p:blipFill>
          <a:blip r:embed="rId2"/>
          <a:stretch/>
        </p:blipFill>
        <p:spPr>
          <a:xfrm>
            <a:off x="7342200" y="522360"/>
            <a:ext cx="1393920" cy="4953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7d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11"/>
          </p:nvPr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the Med-MOTION project - 21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2"/>
          </p:nvPr>
        </p:nvSpPr>
        <p:spPr>
          <a:xfrm>
            <a:off x="65527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ge </a:t>
            </a:r>
            <a:fld id="{04A4E3D0-969A-4962-8210-49299EA5FD1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ocument 6"/>
          <p:cNvSpPr/>
          <p:nvPr/>
        </p:nvSpPr>
        <p:spPr>
          <a:xfrm rot="10800000">
            <a:off x="0" y="6273360"/>
            <a:ext cx="9144000" cy="584280"/>
          </a:xfrm>
          <a:custGeom>
            <a:avLst/>
            <a:gdLst/>
            <a:ahLst/>
            <a:rect l="l" t="t" r="r" b="b"/>
            <a:pathLst>
              <a:path w="21600" h="25479">
                <a:moveTo>
                  <a:pt x="0" y="0"/>
                </a:moveTo>
                <a:lnTo>
                  <a:pt x="21600" y="0"/>
                </a:lnTo>
                <a:lnTo>
                  <a:pt x="21600" y="17322"/>
                </a:lnTo>
                <a:cubicBezTo>
                  <a:pt x="21202" y="21355"/>
                  <a:pt x="20824" y="24176"/>
                  <a:pt x="19210" y="24200"/>
                </a:cubicBezTo>
                <a:cubicBezTo>
                  <a:pt x="15961" y="23164"/>
                  <a:pt x="14905" y="18135"/>
                  <a:pt x="11916" y="17464"/>
                </a:cubicBezTo>
                <a:cubicBezTo>
                  <a:pt x="9489" y="16969"/>
                  <a:pt x="5394" y="24777"/>
                  <a:pt x="3350" y="25382"/>
                </a:cubicBezTo>
                <a:cubicBezTo>
                  <a:pt x="1306" y="25987"/>
                  <a:pt x="562" y="23710"/>
                  <a:pt x="0" y="2017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7d1e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Med Motion_logo_green.emf"/>
          <p:cNvPicPr/>
          <p:nvPr/>
        </p:nvPicPr>
        <p:blipFill>
          <a:blip r:embed="rId2"/>
          <a:stretch/>
        </p:blipFill>
        <p:spPr>
          <a:xfrm>
            <a:off x="7342200" y="522360"/>
            <a:ext cx="1393920" cy="4953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7d1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13"/>
          </p:nvPr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the Med-MOTION project - 21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14"/>
          </p:nvPr>
        </p:nvSpPr>
        <p:spPr>
          <a:xfrm>
            <a:off x="655272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ge </a:t>
            </a:r>
            <a:fld id="{5B0CEDA2-0B38-408E-8C6C-F09127427D3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956880"/>
            <a:ext cx="5459400" cy="11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7d1e"/>
                </a:solidFill>
                <a:latin typeface="Calibri"/>
              </a:rPr>
              <a:t>Med-MOTION</a:t>
            </a:r>
            <a:endParaRPr b="0" lang="en-US" sz="60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2276280"/>
            <a:ext cx="469116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esentation of the </a:t>
            </a:r>
            <a:endParaRPr b="0" lang="en-US" sz="3000" spc="-1" strike="noStrike">
              <a:solidFill>
                <a:srgbClr val="59595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d-MOTION project</a:t>
            </a:r>
            <a:endParaRPr b="0" lang="en-US" sz="3000" spc="-1" strike="noStrike">
              <a:solidFill>
                <a:srgbClr val="59595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arel VAN LIEMPT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niversity of Antwerp</a:t>
            </a:r>
            <a:endParaRPr b="0" lang="en-US" sz="1900" spc="-1" strike="noStrike">
              <a:solidFill>
                <a:srgbClr val="59595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59595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ay 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2013</a:t>
            </a:r>
            <a:endParaRPr b="0" lang="en-US" sz="19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5441-85FF-4E70-B0C0-5B9343EB05A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Main focus: student mobility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Desk Research mainly concentrated on student mobility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Basic concept: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Academic &amp; administrative mobility follows student mobility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But: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Further </a:t>
            </a:r>
            <a:r>
              <a:rPr b="0" lang="nl-BE" sz="3200" spc="-1" strike="noStrike" u="sng">
                <a:solidFill>
                  <a:srgbClr val="595959"/>
                </a:solidFill>
                <a:uFillTx/>
                <a:latin typeface="Calibri"/>
              </a:rPr>
              <a:t>concrete</a:t>
            </a: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 actions on academic &amp; administrative mobility to be undertaken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4" name="Footer Placeholder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F8B7-66EB-4966-AD09-8D63580FDB4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769A-7253-4307-BC67-1BFA1F3E02B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How to proceed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The importance of the Deans’ Meeting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The need for a faculty strategy on mobility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Are we ready to opt for unconventional solutions?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9" name="Footer Placeholder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4657-CDE1-4988-A099-BF4D2EB16AB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62E1-CFAC-4E73-A0A8-535A3715E18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Importance of the </a:t>
            </a:r>
            <a:br>
              <a:rPr sz="4400"/>
            </a:b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Deans’ Meeting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Significant change can only be achieved with the support of the Faculty Managemen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Formal approval of the Mobility Work Plan at the Deans’ Meeting September 2012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= a </a:t>
            </a:r>
            <a:r>
              <a:rPr b="0" lang="nl-BE" sz="3200" spc="-1" strike="noStrike" u="sng">
                <a:solidFill>
                  <a:srgbClr val="595959"/>
                </a:solidFill>
                <a:uFillTx/>
                <a:latin typeface="Calibri"/>
              </a:rPr>
              <a:t>commitment</a:t>
            </a: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 for the implementation of the proposals formulated in the Mobility Work Plan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4" name="Footer Placeholder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824E-B777-4714-98EB-56F34661D90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EA13-EEB4-4FF9-BF80-BF90B5C3B1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85152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The need for a faculty strategy on mobility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A strategy on mobility</a:t>
            </a: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= the starting point &amp; basis for further actions 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= a guideline for the whole faculty community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All partners are asked to commit themselves to finalise a mobility strategy by January 1, 2013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9" name="Footer Placeholder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372E-A52C-4B74-9C91-D4D53D21C5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D9ED-7F84-4391-8B93-6099D08D14D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(Un)Conventional solutions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Examples of conventional solutions are: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Working on a correct use of ECTS rule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Trying to eliminate administrative obstacles as much as possible 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Improving communication procedure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39DF-8AA9-40E2-8634-F9B40A9E398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BC6F-B3AC-47EF-A7FF-A9F216A034B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000" spc="-1" strike="noStrike">
                <a:solidFill>
                  <a:srgbClr val="007d1e"/>
                </a:solidFill>
                <a:latin typeface="Calibri"/>
              </a:rPr>
              <a:t>Ready for unconventional </a:t>
            </a:r>
            <a:br>
              <a:rPr sz="4000"/>
            </a:br>
            <a:r>
              <a:rPr b="0" lang="nl-BE" sz="4000" spc="-1" strike="noStrike">
                <a:solidFill>
                  <a:srgbClr val="007d1e"/>
                </a:solidFill>
                <a:latin typeface="Calibri"/>
              </a:rPr>
              <a:t>solutions?</a:t>
            </a:r>
            <a:br>
              <a:rPr sz="4000"/>
            </a:br>
            <a:endParaRPr b="0" lang="en-US" sz="40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Conventional solutions are necessary but not enough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More profound cooperation with preferential partners is desirable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Prof. Van Royen (Dean of UAntwerp) suggested and discussed unconventional examples of further cooperation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172A-DA6F-49AC-BD28-309A9DCEF99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1079-7CC5-4A72-AB21-856F4804F95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Further actions =  5 Pilots/1</a:t>
            </a:r>
            <a:br>
              <a:rPr sz="4400"/>
            </a:b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Proposals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Common course “Infectious Diseases” Paris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Research training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Clinical clerckship/rotation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Administrative staff training week Berlin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Summer School September 2013 Paris – Berlin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Joint programme at one site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4" name="Footer Placeholder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C806-68AC-4C7A-AA2D-3F5D5A570FD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90EF-21D7-4DAF-8BF1-5CCC05388AC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Further actions =  5 Pilots /2</a:t>
            </a:r>
            <a:br>
              <a:rPr sz="4400"/>
            </a:b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Start organisation in the 2nd working year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Cooperation of small partners’ group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One leader per pilo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meetings held in Spring 2013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9" name="Footer Placeholder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B4B1-2F2F-455D-B944-495640515AA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54EA-3295-4ABF-828D-4A1C9BA679A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1. Organisation of common </a:t>
            </a:r>
            <a:br>
              <a:rPr sz="4400"/>
            </a:b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course unit – at several sites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6836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800" spc="-1" strike="noStrike">
                <a:solidFill>
                  <a:srgbClr val="595959"/>
                </a:solidFill>
                <a:latin typeface="Calibri"/>
              </a:rPr>
              <a:t>Organised by Paris Descartes, Edinburgh and Sacre Cuore Rome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800" spc="-1" strike="noStrike">
                <a:solidFill>
                  <a:srgbClr val="595959"/>
                </a:solidFill>
                <a:latin typeface="Calibri"/>
              </a:rPr>
              <a:t>Meeting held in February 2013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800" spc="-1" strike="noStrike">
                <a:solidFill>
                  <a:srgbClr val="595959"/>
                </a:solidFill>
                <a:latin typeface="Calibri"/>
              </a:rPr>
              <a:t>Common course unit on ‘Infectious diseases’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800" spc="-1" strike="noStrike">
                <a:solidFill>
                  <a:srgbClr val="595959"/>
                </a:solidFill>
                <a:latin typeface="Calibri"/>
              </a:rPr>
              <a:t>with clear learning outcome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800" spc="-1" strike="noStrike">
                <a:solidFill>
                  <a:srgbClr val="595959"/>
                </a:solidFill>
                <a:latin typeface="Calibri"/>
              </a:rPr>
              <a:t>allocation of ECTS credit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800" spc="-1" strike="noStrike">
                <a:solidFill>
                  <a:srgbClr val="595959"/>
                </a:solidFill>
                <a:latin typeface="Calibri"/>
              </a:rPr>
              <a:t>academic mobility (academic staff, lecturers)  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800" spc="-1" strike="noStrike">
                <a:solidFill>
                  <a:srgbClr val="595959"/>
                </a:solidFill>
                <a:latin typeface="Calibri"/>
              </a:rPr>
              <a:t>also possible through virtual mobility 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4" name="Footer Placeholder 1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5102-EF20-4C91-BE18-C9C514FF325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2. Organisation of research </a:t>
            </a:r>
            <a:br>
              <a:rPr sz="4400"/>
            </a:b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work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800" spc="-1" strike="noStrike">
                <a:solidFill>
                  <a:srgbClr val="595959"/>
                </a:solidFill>
                <a:latin typeface="Calibri"/>
              </a:rPr>
              <a:t>Organised by Karolinska Insitute Stockholm, Semmelweis Budapest and UAntwerp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In most curricula allocated time for research work (15-30 ECTS) 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Excellent research units in the partner universitie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Mobility of students </a:t>
            </a:r>
            <a:r>
              <a:rPr b="0" lang="nl-BE" sz="2800" spc="-1" strike="noStrike">
                <a:solidFill>
                  <a:srgbClr val="595959"/>
                </a:solidFill>
                <a:latin typeface="Wingdings"/>
                <a:ea typeface="Wingdings"/>
              </a:rPr>
              <a:t></a:t>
            </a: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 spend (part of) research work at partner university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8" name="Footer Placeholder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D874-37EA-45DD-9654-044F1366ABD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What did I say last year?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New evolutions?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What do I expect form ECST-Ma?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8" name="Tijdelijke aanduiding voor voettekst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the Med-MOTION project - 2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ijdelijke aanduiding voor dianumm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E349-7893-4155-AAEC-B72496FC04F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3. Organisation of clerkships</a:t>
            </a:r>
            <a:br>
              <a:rPr sz="4400"/>
            </a:b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in partner universities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800" spc="-1" strike="noStrike">
                <a:solidFill>
                  <a:srgbClr val="595959"/>
                </a:solidFill>
                <a:latin typeface="Calibri"/>
              </a:rPr>
              <a:t>Organised by UAntwerp, Karolinska Insitute Stockholm, Charité Berlin and Sacre Cuore Rome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800" spc="-1" strike="noStrike">
                <a:solidFill>
                  <a:srgbClr val="595959"/>
                </a:solidFill>
                <a:latin typeface="Calibri"/>
              </a:rPr>
              <a:t>Organisation of a pool of clerkships (clinical training) at each institution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8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fr-BE" sz="2800" spc="-1" strike="noStrike">
                <a:solidFill>
                  <a:srgbClr val="595959"/>
                </a:solidFill>
                <a:latin typeface="Calibri"/>
              </a:rPr>
              <a:t>well defined training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BE" sz="2800" spc="-1" strike="noStrike">
                <a:solidFill>
                  <a:srgbClr val="595959"/>
                </a:solidFill>
                <a:latin typeface="Calibri"/>
              </a:rPr>
              <a:t>skils  &amp; outcome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800" spc="-1" strike="noStrike">
                <a:solidFill>
                  <a:srgbClr val="595959"/>
                </a:solidFill>
                <a:latin typeface="Calibri"/>
              </a:rPr>
              <a:t>Allocation of ECTS credit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800" spc="-1" strike="noStrike">
                <a:solidFill>
                  <a:srgbClr val="595959"/>
                </a:solidFill>
                <a:latin typeface="Calibri"/>
              </a:rPr>
              <a:t>Meeting in March 2013 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2" name="Tijdelijke aanduiding voor voettekst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ijdelijke aanduiding voor dianumm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5C96-C735-4638-BAEC-B2EE0E406AE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http://www.md.utoronto.ca/Assets/FacMed+Digital+Assets/ume/Images/Clerkship.jpg"/>
          <p:cNvPicPr/>
          <p:nvPr/>
        </p:nvPicPr>
        <p:blipFill>
          <a:blip r:embed="rId1"/>
          <a:stretch/>
        </p:blipFill>
        <p:spPr>
          <a:xfrm>
            <a:off x="4572000" y="3500280"/>
            <a:ext cx="381636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BD25-8968-4C94-A547-197654BA8E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000" spc="-1" strike="noStrike">
                <a:solidFill>
                  <a:srgbClr val="007d1e"/>
                </a:solidFill>
                <a:latin typeface="Calibri"/>
              </a:rPr>
              <a:t>4. Administrative staff training</a:t>
            </a:r>
            <a:br>
              <a:rPr sz="4000"/>
            </a:br>
            <a:r>
              <a:rPr b="0" lang="nl-BE" sz="4000" spc="-1" strike="noStrike">
                <a:solidFill>
                  <a:srgbClr val="007d1e"/>
                </a:solidFill>
                <a:latin typeface="Calibri"/>
              </a:rPr>
              <a:t> week</a:t>
            </a:r>
            <a:endParaRPr b="0" lang="en-US" sz="40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557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400" spc="-1" strike="noStrike">
                <a:solidFill>
                  <a:srgbClr val="595959"/>
                </a:solidFill>
                <a:latin typeface="Calibri"/>
              </a:rPr>
              <a:t>Organised by Charité Berlin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Mobility of administrative staff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Label of Med-Motion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000" spc="-1" strike="noStrike">
                <a:solidFill>
                  <a:srgbClr val="007d1e"/>
                </a:solidFill>
                <a:latin typeface="Calibri"/>
              </a:rPr>
              <a:t>5. Joint Summer school</a:t>
            </a:r>
            <a:endParaRPr b="0" lang="en-US" sz="40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400" spc="-1" strike="noStrike">
                <a:solidFill>
                  <a:srgbClr val="595959"/>
                </a:solidFill>
                <a:latin typeface="Calibri"/>
              </a:rPr>
              <a:t>Organised by Charité Berlin &amp; Paris Descartes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Student and academic staff mobility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Emergency Medicine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4d4d4d"/>
                </a:solidFill>
                <a:latin typeface="Calibri"/>
              </a:rPr>
              <a:t>New methodology “Serious Games”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Label of Med-Motion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8" name="Footer Placeholder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FAC8-7919-4CC7-90AF-E8BD3ECB02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BB39-CEAA-4F7D-8D9A-CE4E13D4FF6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000" spc="-1" strike="noStrike">
                <a:solidFill>
                  <a:srgbClr val="007d1e"/>
                </a:solidFill>
                <a:latin typeface="Calibri"/>
              </a:rPr>
              <a:t>6. Joint programme at one site </a:t>
            </a:r>
            <a:endParaRPr b="0" lang="en-US" sz="40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Creation of a joint program (clearly expressed in learning outcomes ) for one semester (30ECTS) or one year (60 ECTS) 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Transcending the diversity : no harmonisation of the curriculum but formulation of learning outcome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For excellent students- learning in antoher educational environment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Deleted option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3" name="Footer Placeholder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3D55-16F5-49C7-A656-3234AE01942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0970-BFFF-408F-825C-E5C75B3A91C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Further actions =  5 Pilots/3</a:t>
            </a:r>
            <a:br>
              <a:rPr sz="4400"/>
            </a:b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Working year 3 (Oct. 2013 – Sept. 2014)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595959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Full implementation of the pilots at every medical institution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595959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First evaluation before end of projec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8" name="Footer Placeholder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8962-1226-4251-9371-9089B79949E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7d1e"/>
                </a:solidFill>
                <a:latin typeface="Calibri"/>
              </a:rPr>
              <a:t>What do I expect from ECTS-MA?</a:t>
            </a:r>
            <a:endParaRPr b="0" lang="en-US" sz="2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Med Motion is looking for a stable partner in order to dissiminate and implement conclusions of Med-Motion project new interested medical faculties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Are you interested in the solutions Med-Motion proposes?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Is it useful to have a contact ECTS-MA – Med-Motion?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2" name="Tijdelijke aanduiding voor voettekst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the Med-MOTION project - 2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ijdelijke aanduiding voor dianumm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639C-A289-4DC1-A2E2-3FC894A558D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0A30-840D-4D8E-9CDA-3BD3C2D8205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6562800" cy="14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Thank you for</a:t>
            </a:r>
            <a:br>
              <a:rPr sz="4400"/>
            </a:b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 your attention!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270828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Karel VAN LIEMP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BDC0-FF47-4895-B5E7-AAEC49EB5DD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91D9-4E2D-47B3-A555-FDF2F8CF38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What?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Project Life Long Learning Programme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Duration: 3 three years (1/10/2011 – 30/09/2014)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Cooperation with partners of other European projects, such as CHarMe and IMS2020 projects – Charité: project coordinator 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8450-515B-43C8-B20A-67AF0420692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Med-Motion Partners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6836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Universiteit Antwerpen </a:t>
            </a:r>
            <a:r>
              <a:rPr b="0" lang="nl-BE" sz="2000" spc="-1" strike="noStrike">
                <a:solidFill>
                  <a:srgbClr val="595959"/>
                </a:solidFill>
                <a:latin typeface="Calibri"/>
              </a:rPr>
              <a:t>(coordinator)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Charité Universitätsmedizin Berlin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Karolinska Institute Stockholm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Paris Descartes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University of Sacre Cuore Rome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Semmelweis University Budapest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University of Edinburgh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EMSA- Antwerp </a:t>
            </a:r>
            <a:r>
              <a:rPr b="0" lang="nl-BE" sz="2000" spc="-1" strike="noStrike">
                <a:solidFill>
                  <a:srgbClr val="595959"/>
                </a:solidFill>
                <a:latin typeface="Calibri"/>
              </a:rPr>
              <a:t>(Students organisation)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Brussels Education Services Belgium </a:t>
            </a:r>
            <a:r>
              <a:rPr b="0" lang="nl-BE" sz="2000" spc="-1" strike="noStrike">
                <a:solidFill>
                  <a:srgbClr val="595959"/>
                </a:solidFill>
                <a:latin typeface="Calibri"/>
              </a:rPr>
              <a:t>(monitoring role)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FEAM (Federation of European Academies of Medicine) </a:t>
            </a:r>
            <a:r>
              <a:rPr b="0" lang="nl-BE" sz="2000" spc="-1" strike="noStrike">
                <a:solidFill>
                  <a:srgbClr val="595959"/>
                </a:solidFill>
                <a:latin typeface="Calibri"/>
              </a:rPr>
              <a:t>(Dissemination role)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7" name="Footer Placeholder 1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7307-297F-46EC-818F-6BB3B0D45C8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147160" cy="13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Purpose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EC projects:</a:t>
            </a: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Med-Motion: to increase Mobility of students </a:t>
            </a:r>
            <a:r>
              <a:rPr b="0" lang="nl-BE" sz="2800" spc="-1" strike="noStrike" u="sng">
                <a:solidFill>
                  <a:srgbClr val="595959"/>
                </a:solidFill>
                <a:uFillTx/>
                <a:latin typeface="Calibri"/>
              </a:rPr>
              <a:t>and</a:t>
            </a: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 staff → administrative and academic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in a framework which allow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- more in depth collaboration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- at a smaller scale, complementary to TN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- full engagement of partner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Innovative character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Active involvement of students 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student organisation EMSA is partner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Important role of faculty leadership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4" name="Tijdelijke aanduiding voor voettekst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the Med-MOTION project - 2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ijdelijke aanduiding voor dianumm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CDE8-609A-4217-9BFE-42D634281AB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E937-6F33-425E-9C4C-0B9595570FA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000" spc="-1" strike="noStrike">
                <a:solidFill>
                  <a:srgbClr val="007d1e"/>
                </a:solidFill>
                <a:latin typeface="Calibri"/>
              </a:rPr>
              <a:t>From</a:t>
            </a: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 Desk Research </a:t>
            </a:r>
            <a:r>
              <a:rPr b="0" lang="nl-BE" sz="4000" spc="-1" strike="noStrike">
                <a:solidFill>
                  <a:srgbClr val="007d1e"/>
                </a:solidFill>
                <a:latin typeface="Calibri"/>
              </a:rPr>
              <a:t>to</a:t>
            </a:r>
            <a:br>
              <a:rPr sz="4000"/>
            </a:b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Mobility Work Plan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53964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= The main objective of the 1st working year of 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Med-MOTION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Basi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outcomes of Charme project: curriculum overview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Desk Research : surveys done by students &amp; administrative staff during the 1st semester of work year 2011–2012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400" spc="-1" strike="noStrike">
                <a:solidFill>
                  <a:srgbClr val="595959"/>
                </a:solidFill>
                <a:latin typeface="Calibri"/>
              </a:rPr>
              <a:t>a short survey on academic mobility in a small group of academics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revealed problems + obstacles 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9" name="Footer Placeholder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CA04-D3CC-4C27-9525-686037B3EDC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5624-9562-400B-BD29-63F9B9A3F8F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The problems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Revealed problems: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The lack of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standardisation</a:t>
            </a: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 in registering student mobility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The ambiguity of terminology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Proposed solutions: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Focus on the ERASMUS mobility upcoming standard (3 months or 15 ECTS)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Agree upon a glossary in MWP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8662-6C88-4782-8337-FD96BE55D41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46D6-729A-42FC-8881-8FE43796D52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7d1e"/>
                </a:solidFill>
                <a:latin typeface="Calibri"/>
              </a:rPr>
              <a:t>The obstacles</a:t>
            </a:r>
            <a:endParaRPr b="0" lang="en-US" sz="4400" spc="-1" strike="noStrike">
              <a:solidFill>
                <a:srgbClr val="007d1e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Revealed obstacles: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Differences between curricula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Language barrier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Procedure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Recognition/fear of study delay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nl-BE" sz="2800" spc="-1" strike="noStrike">
                <a:solidFill>
                  <a:srgbClr val="595959"/>
                </a:solidFill>
                <a:latin typeface="Calibri"/>
              </a:rPr>
              <a:t>Financial barrier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595959"/>
                </a:solidFill>
                <a:latin typeface="Calibri"/>
              </a:rPr>
              <a:t>Cfr. Results of ESN study report 2011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457200" y="642636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tation of Med-MOTION project – Pavia  03/05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553080" y="6426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8D5B-2E4C-4897-BDB9-A43B750058D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5:56:10Z</dcterms:created>
  <dc:creator>Guido Erreygers</dc:creator>
  <dc:description/>
  <dc:language>en-US</dc:language>
  <cp:lastModifiedBy>*</cp:lastModifiedBy>
  <dcterms:modified xsi:type="dcterms:W3CDTF">2013-04-30T13:38:40Z</dcterms:modified>
  <cp:revision>56</cp:revision>
  <dc:subject/>
  <dc:title>PowerPoint Presentation</dc:title>
</cp:coreProperties>
</file>